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0.jpeg" ContentType="image/jpeg"/>
  <Override PartName="/ppt/media/image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9F2-D3EE-41A3-BD1D-6112ACF4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7F1-0A75-4EA2-B1BA-05DEB621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E3B-7A9A-4B11-9CEE-C79AD4CD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321-63E1-420A-8054-BAE1E0CC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B4C9-213F-4ECC-80B5-5C2EAAF6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38C9-7153-4501-A7AB-AA6A8656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84B5-AE9A-4AF3-BBB6-37467410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3AED-AA1B-4075-BDFB-B5720B31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1F8D-3472-4A1A-9EF5-80026F72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4460-2232-472F-B324-51B02A15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6B2D-C3E9-4864-92DD-36E784D4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4A4-6EE0-4DE6-8712-CCDD89FF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033E-5B0F-4C49-BB1E-370D7ACD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FBD5-EAF9-42A6-AC9B-C054388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CC5B-571F-4FD8-8A0C-6643B122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9FDA-42BF-40AC-A08C-6CB1F4D6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CEFF-8744-4864-BE26-28C6D1FE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92D-44C0-410F-8F89-15E8AD22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364-1E9F-4EFF-AD01-99EF73F5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331-7424-4B06-A615-0A9AD5BC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EEB-F44F-46E9-9931-C2C415CE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017-8A24-454E-A25F-96C2CA54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9C2-102C-4A92-B21C-54937472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F7B-E344-4A7A-9BCC-CAC2ED88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61CE-D97E-4BB0-A380-BB7D744908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57200" y="1219320"/>
            <a:ext cx="81532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66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29C8-ABB4-4914-821E-4F69BD6C85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80880" y="2514600"/>
            <a:ext cx="825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is one of the most basic engineering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y measurements were made in terms of the dimensions of the 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80880" y="4495680"/>
            <a:ext cx="6096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ubi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the distance between the tip of your middle finger to the elbow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to measure cords and textil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other measure was 24 digits or 6 pal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cubit"/>
          <p:cNvPicPr/>
          <p:nvPr/>
        </p:nvPicPr>
        <p:blipFill>
          <a:blip r:embed="rId1"/>
          <a:stretch/>
        </p:blipFill>
        <p:spPr>
          <a:xfrm>
            <a:off x="6553080" y="44956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80880" y="25146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pes are available in lengths up to 1,000 feet; precision of 1/1,000 to 1/5,000 are commonly ob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urveying tape 1"/>
          <p:cNvPicPr/>
          <p:nvPr/>
        </p:nvPicPr>
        <p:blipFill>
          <a:blip r:embed="rId1"/>
          <a:stretch/>
        </p:blipFill>
        <p:spPr>
          <a:xfrm>
            <a:off x="5105520" y="3657600"/>
            <a:ext cx="209556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surveying tape"/>
          <p:cNvPicPr/>
          <p:nvPr/>
        </p:nvPicPr>
        <p:blipFill>
          <a:blip r:embed="rId2"/>
          <a:stretch/>
        </p:blipFill>
        <p:spPr>
          <a:xfrm>
            <a:off x="1600200" y="3733920"/>
            <a:ext cx="254016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lectronic Distance Measurement (ED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80880" y="2514600"/>
            <a:ext cx="825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Ms are very useful in measuring distances that are difficult to access or long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surveying prism"/>
          <p:cNvPicPr/>
          <p:nvPr/>
        </p:nvPicPr>
        <p:blipFill>
          <a:blip r:embed="rId1"/>
          <a:stretch/>
        </p:blipFill>
        <p:spPr>
          <a:xfrm>
            <a:off x="5791320" y="3429000"/>
            <a:ext cx="1596960" cy="3162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otal_station_small"/>
          <p:cNvPicPr/>
          <p:nvPr/>
        </p:nvPicPr>
        <p:blipFill>
          <a:blip r:embed="rId2"/>
          <a:stretch/>
        </p:blipFill>
        <p:spPr>
          <a:xfrm>
            <a:off x="1600200" y="3429000"/>
            <a:ext cx="2438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Level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2514600"/>
            <a:ext cx="825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taping is done over level ground where there is no underbrush, the tape can rest on th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ping crew consists of two people: the head tapeperson and the rear tape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ead tapeperson takes one end of the tape walks down the line towards th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distance is more than 100–ft, then the head tapeperson places a taping pin at the 100–ft interval and the process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Sloping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0880" y="251460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taping is done over sloping ground where there is no underbrush, the taping must be done in sections, referred to a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reaking the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surveying taping"/>
          <p:cNvPicPr/>
          <p:nvPr/>
        </p:nvPicPr>
        <p:blipFill>
          <a:blip r:embed="rId1"/>
          <a:stretch/>
        </p:blipFill>
        <p:spPr>
          <a:xfrm>
            <a:off x="4191120" y="25909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Sloping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80880" y="2514600"/>
            <a:ext cx="8255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ing the tape more than five feet above the ground is difficult, therefore slopes greater than 5 ft per 100 ft will require runs of less than 1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457200" y="3497400"/>
          <a:ext cx="8381880" cy="33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497400"/>
                    <a:ext cx="838188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ver Sloping 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685800" y="3429000"/>
            <a:ext cx="7772400" cy="2603520"/>
          </a:xfrm>
          <a:prstGeom prst="pie">
            <a:avLst/>
          </a:pr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990720" y="3429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33526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22"/>
          <p:cNvGrpSpPr/>
          <p:nvPr/>
        </p:nvGrpSpPr>
        <p:grpSpPr>
          <a:xfrm>
            <a:off x="990720" y="3581280"/>
            <a:ext cx="2361960" cy="2974320"/>
            <a:chOff x="990720" y="3581280"/>
            <a:chExt cx="2361960" cy="2974320"/>
          </a:xfrm>
        </p:grpSpPr>
        <p:sp>
          <p:nvSpPr>
            <p:cNvPr id="153" name="Line 13"/>
            <p:cNvSpPr/>
            <p:nvPr/>
          </p:nvSpPr>
          <p:spPr>
            <a:xfrm>
              <a:off x="990720" y="63244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990720" y="35812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8"/>
            <p:cNvSpPr/>
            <p:nvPr/>
          </p:nvSpPr>
          <p:spPr>
            <a:xfrm>
              <a:off x="3352680" y="46483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1503360" y="6095880"/>
              <a:ext cx="1166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0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0"/>
          <p:cNvGrpSpPr/>
          <p:nvPr/>
        </p:nvGrpSpPr>
        <p:grpSpPr>
          <a:xfrm>
            <a:off x="5638680" y="6095880"/>
            <a:ext cx="2362320" cy="459720"/>
            <a:chOff x="5638680" y="6095880"/>
            <a:chExt cx="2362320" cy="459720"/>
          </a:xfrm>
        </p:grpSpPr>
        <p:sp>
          <p:nvSpPr>
            <p:cNvPr id="158" name="Line 10"/>
            <p:cNvSpPr/>
            <p:nvPr/>
          </p:nvSpPr>
          <p:spPr>
            <a:xfrm>
              <a:off x="8001000" y="6095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5638680" y="63244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6303960" y="6095880"/>
              <a:ext cx="1166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5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29"/>
          <p:cNvGrpSpPr/>
          <p:nvPr/>
        </p:nvGrpSpPr>
        <p:grpSpPr>
          <a:xfrm>
            <a:off x="3429000" y="5638680"/>
            <a:ext cx="2209680" cy="916920"/>
            <a:chOff x="3429000" y="5638680"/>
            <a:chExt cx="2209680" cy="916920"/>
          </a:xfrm>
        </p:grpSpPr>
        <p:sp>
          <p:nvSpPr>
            <p:cNvPr id="162" name="Line 9"/>
            <p:cNvSpPr/>
            <p:nvPr/>
          </p:nvSpPr>
          <p:spPr>
            <a:xfrm>
              <a:off x="5638680" y="5638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>
              <a:off x="3429000" y="6324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941640" y="6095880"/>
              <a:ext cx="1166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0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23"/>
          <p:cNvSpPr/>
          <p:nvPr/>
        </p:nvSpPr>
        <p:spPr>
          <a:xfrm>
            <a:off x="1301400" y="2590920"/>
            <a:ext cx="2864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 the tap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26"/>
          <p:cNvGrpSpPr/>
          <p:nvPr/>
        </p:nvGrpSpPr>
        <p:grpSpPr>
          <a:xfrm>
            <a:off x="3504960" y="3124080"/>
            <a:ext cx="4575600" cy="1219320"/>
            <a:chOff x="3504960" y="3124080"/>
            <a:chExt cx="4575600" cy="1219320"/>
          </a:xfrm>
        </p:grpSpPr>
        <p:sp>
          <p:nvSpPr>
            <p:cNvPr id="167" name="Text Box 24"/>
            <p:cNvSpPr/>
            <p:nvPr/>
          </p:nvSpPr>
          <p:spPr>
            <a:xfrm>
              <a:off x="4147920" y="3124080"/>
              <a:ext cx="39326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Use a plumb bob to loc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 flipH="1">
              <a:off x="3504960" y="38098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Line 27"/>
          <p:cNvSpPr/>
          <p:nvPr/>
        </p:nvSpPr>
        <p:spPr>
          <a:xfrm>
            <a:off x="3352680" y="4572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8"/>
          <p:cNvSpPr/>
          <p:nvPr/>
        </p:nvSpPr>
        <p:spPr>
          <a:xfrm>
            <a:off x="563868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1"/>
          <p:cNvSpPr/>
          <p:nvPr/>
        </p:nvSpPr>
        <p:spPr>
          <a:xfrm>
            <a:off x="5638680" y="5562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2"/>
          <p:cNvSpPr/>
          <p:nvPr/>
        </p:nvSpPr>
        <p:spPr>
          <a:xfrm>
            <a:off x="80010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5715000" y="3809880"/>
            <a:ext cx="3048120" cy="1219320"/>
            <a:chOff x="5715000" y="3809880"/>
            <a:chExt cx="3048120" cy="1219320"/>
          </a:xfrm>
        </p:grpSpPr>
        <p:sp>
          <p:nvSpPr>
            <p:cNvPr id="174" name="Text Box 34"/>
            <p:cNvSpPr/>
            <p:nvPr/>
          </p:nvSpPr>
          <p:spPr>
            <a:xfrm>
              <a:off x="6172200" y="3809880"/>
              <a:ext cx="25909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eight less th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 f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5"/>
            <p:cNvSpPr/>
            <p:nvPr/>
          </p:nvSpPr>
          <p:spPr>
            <a:xfrm flipH="1">
              <a:off x="5715000" y="4495680"/>
              <a:ext cx="473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tance Measure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668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3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Distance Measu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57200" y="25909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th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distance between the tips of your middle finger when yo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ms are outstre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57200" y="37339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ame comes from the Danish faedn, "outstretched arms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surveying - fathom"/>
          <p:cNvPicPr/>
          <p:nvPr/>
        </p:nvPicPr>
        <p:blipFill>
          <a:blip r:embed="rId1"/>
          <a:stretch/>
        </p:blipFill>
        <p:spPr>
          <a:xfrm>
            <a:off x="4343400" y="4343400"/>
            <a:ext cx="41911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590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o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from the tip of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’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g toe to the he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86200" y="4572000"/>
            <a:ext cx="5029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the sum of the lengths of the left feet of 16 m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6.5 - 24 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foot"/>
          <p:cNvPicPr/>
          <p:nvPr/>
        </p:nvPicPr>
        <p:blipFill>
          <a:blip r:embed="rId1"/>
          <a:stretch/>
        </p:blipFill>
        <p:spPr>
          <a:xfrm>
            <a:off x="6400800" y="2057400"/>
            <a:ext cx="1905120" cy="195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Three_right_feet"/>
          <p:cNvPicPr/>
          <p:nvPr/>
        </p:nvPicPr>
        <p:blipFill>
          <a:blip r:embed="rId2"/>
          <a:stretch/>
        </p:blipFill>
        <p:spPr>
          <a:xfrm>
            <a:off x="304920" y="3962520"/>
            <a:ext cx="3225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c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880" y="2514600"/>
            <a:ext cx="825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ility to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tance is very use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erson can determine thei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y counting the number of paces necessary to walk a distance that has been previously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80880" y="4952880"/>
            <a:ext cx="5943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defined as one ste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trid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consider two step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surveying pace"/>
          <p:cNvPicPr/>
          <p:nvPr/>
        </p:nvPicPr>
        <p:blipFill>
          <a:blip r:embed="rId1"/>
          <a:stretch/>
        </p:blipFill>
        <p:spPr>
          <a:xfrm>
            <a:off x="5791320" y="419112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c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7" name="Object 1031"/>
          <p:cNvGraphicFramePr/>
          <p:nvPr/>
        </p:nvGraphicFramePr>
        <p:xfrm>
          <a:off x="1066680" y="2286000"/>
          <a:ext cx="68468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846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suring Whe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11" descr="surveying wheel"/>
          <p:cNvPicPr/>
          <p:nvPr/>
        </p:nvPicPr>
        <p:blipFill>
          <a:blip r:embed="rId1"/>
          <a:stretch/>
        </p:blipFill>
        <p:spPr>
          <a:xfrm>
            <a:off x="1447920" y="2438280"/>
            <a:ext cx="3022560" cy="365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415guy"/>
          <p:cNvPicPr/>
          <p:nvPr/>
        </p:nvPicPr>
        <p:blipFill>
          <a:blip r:embed="rId2"/>
          <a:stretch/>
        </p:blipFill>
        <p:spPr>
          <a:xfrm>
            <a:off x="5638680" y="2057400"/>
            <a:ext cx="16639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80880" y="2076480"/>
            <a:ext cx="825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centuries engineers have measured distances with ropes, lines, or 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80880" y="314316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rm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hai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arry–over from the time when the Gunter chain was used (1600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surveying chain"/>
          <p:cNvPicPr/>
          <p:nvPr/>
        </p:nvPicPr>
        <p:blipFill>
          <a:blip r:embed="rId1"/>
          <a:stretch/>
        </p:blipFill>
        <p:spPr>
          <a:xfrm>
            <a:off x="6858000" y="3048120"/>
            <a:ext cx="1998720" cy="3438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380880" y="4438800"/>
            <a:ext cx="647712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66 foot chain is made of 100 links 7.92 inches 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785 U.S. a federal law stated that all government surveys must be done with a Gunter's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052"/>
          <p:cNvSpPr/>
          <p:nvPr/>
        </p:nvSpPr>
        <p:spPr>
          <a:xfrm>
            <a:off x="380880" y="2000160"/>
            <a:ext cx="853452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lies at the origin of the definition of 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riginal acre was an area of land suitable for ploughing with a defined amount of work (e.g., ten furrows long, each furrow being ten chains, permitting rests of an oxen team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measured one chain by one furlong (totaling 10 square chain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y two–lane roads were laid out with a chain, resulting in a 66–ft right–of–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ping or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1447920" y="1951200"/>
            <a:ext cx="59436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02:20:19Z</dcterms:created>
  <dc:creator>Administrator</dc:creator>
  <dc:description/>
  <dc:language>en-US</dc:language>
  <cp:lastModifiedBy>RPatterson</cp:lastModifiedBy>
  <cp:lastPrinted>2001-08-31T18:09:03Z</cp:lastPrinted>
  <dcterms:modified xsi:type="dcterms:W3CDTF">2009-12-09T20:03:01Z</dcterms:modified>
  <cp:revision>104</cp:revision>
  <dc:subject/>
  <dc:title>Problem Solv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K:\InetPub\wwwroot\faculty\camp\1101\notes\surveying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