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02A-2CDB-4D68-8A1E-405C8C70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4C1-859E-4000-A91F-3FAC047D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87E-DBE0-420A-BA0C-2E508D49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D3D-650B-413E-B7C7-69F24DF2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19E-E4E8-40A4-AFF8-78E7331F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D042-44D0-40FB-8FC5-F078BD88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16B2-AE5A-4C7E-A30A-58222BC6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4B68-9B9D-4543-AAB0-0F12316C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75F-3CE4-4923-9887-3BA1AFB2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BDC-8989-4255-80C4-5361204E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E17D-B03A-476F-A517-71A56224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B0D-B9E6-4A6C-A255-93522765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AF66-CD47-44DA-9EAA-DF497D6BD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ghting the Torch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 the cutting oxygen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- if the preheat flame changes slightly to a carburizing flame, continue to depress the cutting oxygen lever and increase the preheat oxygen at the cutting attachment until the preheat flames are neutral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Users\The Hirschler's\Desktop\2009-10-24\100_1964.JPG"/>
          <p:cNvPicPr/>
          <p:nvPr/>
        </p:nvPicPr>
        <p:blipFill>
          <a:blip r:embed="rId1"/>
          <a:stretch/>
        </p:blipFill>
        <p:spPr>
          <a:xfrm>
            <a:off x="4572000" y="236232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eca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PORTANT: Check where molten metal and sparks will fal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ve fire extinguishers available, remove flammable substances, and check where the oxy-fuel hoses are located before starting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tective leather boots and gloves should be worn while torch cu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C:\Users\The Hirschler's\Desktop\2009-10-24\100_1986.JPG"/>
          <p:cNvPicPr/>
          <p:nvPr/>
        </p:nvPicPr>
        <p:blipFill>
          <a:blip r:embed="rId1"/>
          <a:stretch/>
        </p:blipFill>
        <p:spPr>
          <a:xfrm>
            <a:off x="838080" y="2057400"/>
            <a:ext cx="3124440" cy="234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J:\2009-06-14-1625-34\100_1681.jpg"/>
          <p:cNvPicPr/>
          <p:nvPr/>
        </p:nvPicPr>
        <p:blipFill>
          <a:blip r:embed="rId2"/>
          <a:stretch/>
        </p:blipFill>
        <p:spPr>
          <a:xfrm>
            <a:off x="838080" y="51814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Users\The Hirschler's\Desktop\2009-10-24\100_2007.JPG"/>
          <p:cNvPicPr/>
          <p:nvPr/>
        </p:nvPicPr>
        <p:blipFill>
          <a:blip r:embed="rId3"/>
          <a:stretch/>
        </p:blipFill>
        <p:spPr>
          <a:xfrm>
            <a:off x="2438280" y="5181480"/>
            <a:ext cx="152424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raight Line 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C:\Users\The Hirschler's\Desktop\2009-10-24\100_1965.JPG"/>
          <p:cNvPicPr/>
          <p:nvPr/>
        </p:nvPicPr>
        <p:blipFill>
          <a:blip r:embed="rId1"/>
          <a:stretch/>
        </p:blipFill>
        <p:spPr>
          <a:xfrm>
            <a:off x="457200" y="2133720"/>
            <a:ext cx="3886200" cy="2911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The Hirschler's\Desktop\2009-10-24\100_1966.JPG"/>
          <p:cNvPicPr/>
          <p:nvPr/>
        </p:nvPicPr>
        <p:blipFill>
          <a:blip r:embed="rId2"/>
          <a:stretch/>
        </p:blipFill>
        <p:spPr>
          <a:xfrm>
            <a:off x="4648320" y="2133720"/>
            <a:ext cx="38862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s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raight Line 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the cutting attachment or torch comfortably in both hands so one hand stabilizes the cutting tip preheat flames approximately 1/8” from the base metal and the other hand is free to depress the cutting oxygen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C:\Users\The Hirschler's\Desktop\2009-10-24\100_1968.JPG"/>
          <p:cNvPicPr/>
          <p:nvPr/>
        </p:nvPicPr>
        <p:blipFill>
          <a:blip r:embed="rId1"/>
          <a:stretch/>
        </p:blipFill>
        <p:spPr>
          <a:xfrm>
            <a:off x="464832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s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raight Line Cutting 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the preheat flame on the spot where the cut is to be sta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cutting action can start, the base metal must be preheated to a bright cherry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red spot appears, depress the cutting oxygen lever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C:\Users\The Hirschler's\Desktop\2009-10-24\100_1969.JPG"/>
          <p:cNvPicPr/>
          <p:nvPr/>
        </p:nvPicPr>
        <p:blipFill>
          <a:blip r:embed="rId1"/>
          <a:stretch/>
        </p:blipFill>
        <p:spPr>
          <a:xfrm>
            <a:off x="1143000" y="4114800"/>
            <a:ext cx="2819520" cy="2111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The Hirschler's\Desktop\2009-10-24\100_1974.JPG"/>
          <p:cNvPicPr/>
          <p:nvPr/>
        </p:nvPicPr>
        <p:blipFill>
          <a:blip r:embed="rId2"/>
          <a:stretch/>
        </p:blipFill>
        <p:spPr>
          <a:xfrm>
            <a:off x="1143000" y="1924200"/>
            <a:ext cx="281952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s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raight Line Cutting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cut has started, move the torch in the direction you wish to c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moving too slowly will allow the cut or kerf to fuse together, and moving too fast will not allow the metal to be preheated and the cut will be l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C:\Users\The Hirschler's\Desktop\2009-10-24\100_1970.JPG"/>
          <p:cNvPicPr/>
          <p:nvPr/>
        </p:nvPicPr>
        <p:blipFill>
          <a:blip r:embed="rId1"/>
          <a:stretch/>
        </p:blipFill>
        <p:spPr>
          <a:xfrm>
            <a:off x="464832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s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raight Line Cutting 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27432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to depress the cutting oxygen lever past the final edge of the base metal for a good “drop cu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C:\Users\The Hirschler's\Desktop\2009-10-24\100_1971.JPG"/>
          <p:cNvPicPr/>
          <p:nvPr/>
        </p:nvPicPr>
        <p:blipFill>
          <a:blip r:embed="rId1"/>
          <a:stretch/>
        </p:blipFill>
        <p:spPr>
          <a:xfrm>
            <a:off x="914400" y="1981080"/>
            <a:ext cx="2895480" cy="2168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The Hirschler's\Desktop\2009-10-24\100_1973.JPG"/>
          <p:cNvPicPr/>
          <p:nvPr/>
        </p:nvPicPr>
        <p:blipFill>
          <a:blip r:embed="rId2"/>
          <a:stretch/>
        </p:blipFill>
        <p:spPr>
          <a:xfrm>
            <a:off x="914400" y="4267080"/>
            <a:ext cx="28954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ommended Procedure for Flame Cutting of Thick Steel 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C:\Users\The Hirschler's\Pictures\torch book pic.jpg"/>
          <p:cNvPicPr/>
          <p:nvPr/>
        </p:nvPicPr>
        <p:blipFill>
          <a:blip r:embed="rId1"/>
          <a:stretch/>
        </p:blipFill>
        <p:spPr>
          <a:xfrm>
            <a:off x="5486400" y="838080"/>
            <a:ext cx="3548160" cy="5867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228600" y="717480"/>
            <a:ext cx="518148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t to preheat; point tip at angle on edge of pl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e flame back to upright position – keep the dark inner blue flame 1/8” from me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s oxy valve slowly; as cut starts, rotate tip backward slight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 rotate to upright position without moving tip forw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e tip more - so tip points slightly in direction of cu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ce as fast as good cutting action will perm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 not jerk; maintain slight leading angle toward cut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 down; let cutting stream sever corner edge at bott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inue steady forward motion until tip has cleared 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5181480" y="685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6"/>
          <p:cNvSpPr/>
          <p:nvPr/>
        </p:nvSpPr>
        <p:spPr>
          <a:xfrm>
            <a:off x="5410080" y="685800"/>
            <a:ext cx="0" cy="617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ch Cutting Proced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iercing a H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ierce metal, again hold the cutting attachment or torch comfortably in both hands with one hand stabilizing the cutting tip preheat flames approximately 1/8” from the base metal while the other hand is free to depress the cutting oxygen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C:\Users\The Hirschler's\Desktop\2009-10-24\100_1977.JPG"/>
          <p:cNvPicPr/>
          <p:nvPr/>
        </p:nvPicPr>
        <p:blipFill>
          <a:blip r:embed="rId1"/>
          <a:stretch/>
        </p:blipFill>
        <p:spPr>
          <a:xfrm>
            <a:off x="5257800" y="2133720"/>
            <a:ext cx="2743200" cy="205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Users\The Hirschler's\Desktop\2009-10-24\100_1979.JPG"/>
          <p:cNvPicPr/>
          <p:nvPr/>
        </p:nvPicPr>
        <p:blipFill>
          <a:blip r:embed="rId2"/>
          <a:stretch/>
        </p:blipFill>
        <p:spPr>
          <a:xfrm>
            <a:off x="5257800" y="4267080"/>
            <a:ext cx="274320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5:41:23Z</dcterms:created>
  <dc:creator>The Hirschler's</dc:creator>
  <dc:description/>
  <dc:language>en-US</dc:language>
  <cp:lastModifiedBy>Michael Spiess</cp:lastModifiedBy>
  <dcterms:modified xsi:type="dcterms:W3CDTF">2009-11-06T10:52:10Z</dcterms:modified>
  <cp:revision>1</cp:revision>
  <dc:subject/>
  <dc:title>Lighting the Torch Cont.</dc:title>
</cp:coreProperties>
</file>