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126F-5D4B-425F-9244-B9CA4EF3F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C3F7-377A-490B-B518-E6202AEDD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6D0D-E759-4B2F-92BB-B349088CB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C141-F80B-44CF-8462-8DCE39756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E9F5-1FA7-4671-A9D7-0F71D9D0F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F540-BF23-4406-82FE-8D28444B7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6EDB-8606-42DC-9C6D-FFAE64FB8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78C8-3CEB-479E-A4FB-E774C63B5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ing the Cyli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E78D-0CEE-4109-9038-FE1CEBFA8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B704-7200-4231-B0D0-DE8B56C68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0D44-AEB1-4C12-A052-8E36EDD39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49E4-DAC9-4A2A-8A6B-444D1385C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840F-942C-4408-8FA9-F8A61458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FAD0-F351-45E4-9ADE-BC4B3DAE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1EA5-995D-4E75-BCA5-7B535EF4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448F-A74A-4ECC-A453-2A41004E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DED7-E9D7-4922-B5B2-D601224D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4E4F-7D46-4604-83DE-AF21383A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22DE-32EB-487C-B32F-FD752B7D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E9DC-0355-4D9C-9718-AD8931EA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6BCD-E3FE-4E20-A72E-82031A17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6165-A5EC-4881-BE9B-8492C68C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B334-A54B-4A28-9DE0-C9BA6B44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1536-203C-4765-8B1E-D3229449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20BF-9D0F-4333-BADB-43CB8E64A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IT:  Oxy-Fuel Welding, Brazing, Cutting and H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4876560"/>
            <a:ext cx="69339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SSON: OXY-ACETYLENE EQUIPMENT SAF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B7.2 – Know how to properly set up, adjust, shut down and maintain an oxy-fuel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100_1608_edited"/>
          <p:cNvPicPr/>
          <p:nvPr/>
        </p:nvPicPr>
        <p:blipFill>
          <a:blip r:embed="rId1"/>
          <a:stretch/>
        </p:blipFill>
        <p:spPr>
          <a:xfrm>
            <a:off x="3657600" y="1295280"/>
            <a:ext cx="1724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urning on the Cylinder Val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3" descr="100_1669_edited"/>
          <p:cNvPicPr/>
          <p:nvPr/>
        </p:nvPicPr>
        <p:blipFill>
          <a:blip r:embed="rId1"/>
          <a:stretch/>
        </p:blipFill>
        <p:spPr>
          <a:xfrm>
            <a:off x="6400800" y="3276720"/>
            <a:ext cx="2189160" cy="32763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304920" y="1295280"/>
            <a:ext cx="563868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ver stand in front or behind a regulator when opening the cylinder val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Always stand to the side of the cylinder leaving the cylinder between you and the regula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certain that the tension on the regulator adjusting screw is released.  Unscrew adjusting screw counter clockwise until tension is remo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ing to the side of the cylinder, slowly open the oxygen cylinder valve until the maximum pressure registers on the high pressure gauge.  Then open the oxygen cylinder valve all-the-way to seal the valve pack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same manner, slowly open the acetylene cylinder valve.  But only open the Acetylene valve ¾ - 1 full turn.  Allowing the operator to quickly turn off the fuel in case of emergen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C:\Users\The Hirschler's\Desktop\2009-10-24\100_1891.JPG"/>
          <p:cNvPicPr/>
          <p:nvPr/>
        </p:nvPicPr>
        <p:blipFill>
          <a:blip r:embed="rId2"/>
          <a:stretch/>
        </p:blipFill>
        <p:spPr>
          <a:xfrm>
            <a:off x="6400800" y="1371600"/>
            <a:ext cx="22096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djusting the Oxygen Regulator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*Never Exceed 40 PSI – Working Ga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100_1671"/>
          <p:cNvPicPr/>
          <p:nvPr/>
        </p:nvPicPr>
        <p:blipFill>
          <a:blip r:embed="rId1"/>
          <a:stretch/>
        </p:blipFill>
        <p:spPr>
          <a:xfrm>
            <a:off x="533520" y="1752480"/>
            <a:ext cx="3504960" cy="26258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4495680" y="30481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orking Gaug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Cylinder Gau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5638680" y="342900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6"/>
          <p:cNvSpPr/>
          <p:nvPr/>
        </p:nvSpPr>
        <p:spPr>
          <a:xfrm flipH="1">
            <a:off x="7315200" y="342900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228600" y="47242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xygen Regulator Adjustment Scr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8" descr="100_1579_edited"/>
          <p:cNvPicPr/>
          <p:nvPr/>
        </p:nvPicPr>
        <p:blipFill>
          <a:blip r:embed="rId2"/>
          <a:stretch/>
        </p:blipFill>
        <p:spPr>
          <a:xfrm>
            <a:off x="5334120" y="3733920"/>
            <a:ext cx="2377800" cy="2819160"/>
          </a:xfrm>
          <a:prstGeom prst="rect">
            <a:avLst/>
          </a:prstGeom>
          <a:ln w="0">
            <a:noFill/>
          </a:ln>
        </p:spPr>
      </p:pic>
      <p:sp>
        <p:nvSpPr>
          <p:cNvPr id="113" name="Line 9"/>
          <p:cNvSpPr/>
          <p:nvPr/>
        </p:nvSpPr>
        <p:spPr>
          <a:xfrm>
            <a:off x="4419720" y="4952880"/>
            <a:ext cx="20574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304920" y="5257800"/>
            <a:ext cx="4190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xygen Regulator- Female Fi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ght Handed Threads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 Markings on n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4191120" y="5410080"/>
            <a:ext cx="53316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2971800" y="5867280"/>
            <a:ext cx="175248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 flipV="1">
            <a:off x="2743200" y="6019920"/>
            <a:ext cx="198108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4724280" y="6019920"/>
            <a:ext cx="228600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 flipV="1">
            <a:off x="7010280" y="5715000"/>
            <a:ext cx="38124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Times New Roman"/>
              </a:rPr>
              <a:t>Slowly Crack the Acetylene Cylinder Valve</a:t>
            </a:r>
            <a:br>
              <a:rPr sz="32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*Open cylinder valve ¾ - 1 full turn (quick shut-of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3" descr="100_1672"/>
          <p:cNvPicPr/>
          <p:nvPr/>
        </p:nvPicPr>
        <p:blipFill>
          <a:blip r:embed="rId1"/>
          <a:stretch/>
        </p:blipFill>
        <p:spPr>
          <a:xfrm>
            <a:off x="1523880" y="1638360"/>
            <a:ext cx="632484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Adjusting the Acetylene Regulator</a:t>
            </a:r>
            <a:br>
              <a:rPr sz="36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*Never Exceed 15 PSI – Working Ga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100_1675"/>
          <p:cNvPicPr/>
          <p:nvPr/>
        </p:nvPicPr>
        <p:blipFill>
          <a:blip r:embed="rId1"/>
          <a:stretch/>
        </p:blipFill>
        <p:spPr>
          <a:xfrm>
            <a:off x="838080" y="1676520"/>
            <a:ext cx="3505320" cy="2625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100_1591_edited"/>
          <p:cNvPicPr/>
          <p:nvPr/>
        </p:nvPicPr>
        <p:blipFill>
          <a:blip r:embed="rId2"/>
          <a:stretch/>
        </p:blipFill>
        <p:spPr>
          <a:xfrm>
            <a:off x="5257800" y="3276720"/>
            <a:ext cx="3124080" cy="3035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4800600" y="2514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orking Gaug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Cylinder Gau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5791320" y="2895480"/>
            <a:ext cx="759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7"/>
          <p:cNvSpPr/>
          <p:nvPr/>
        </p:nvSpPr>
        <p:spPr>
          <a:xfrm flipH="1">
            <a:off x="7467480" y="2895480"/>
            <a:ext cx="7632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5228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ylene Regulator - Adjustment Scr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4724280" y="5410080"/>
            <a:ext cx="167652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52280" y="457200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ylene Regulator- Male Fi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152280" y="5715000"/>
            <a:ext cx="5029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ylene Regulator- Left Handed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ches on Nut – Indicate Left Handed Threa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7848720" y="5105520"/>
            <a:ext cx="30456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3"/>
          <p:cNvSpPr/>
          <p:nvPr/>
        </p:nvSpPr>
        <p:spPr>
          <a:xfrm flipV="1">
            <a:off x="7391520" y="5943600"/>
            <a:ext cx="15228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4952880" y="6019920"/>
            <a:ext cx="24386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4038480" y="4800600"/>
            <a:ext cx="381024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6"/>
          <p:cNvSpPr/>
          <p:nvPr/>
        </p:nvSpPr>
        <p:spPr>
          <a:xfrm flipV="1">
            <a:off x="4572000" y="6171840"/>
            <a:ext cx="1143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xy-Fuel Hos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100_1573"/>
          <p:cNvPicPr/>
          <p:nvPr/>
        </p:nvPicPr>
        <p:blipFill>
          <a:blip r:embed="rId1"/>
          <a:stretch/>
        </p:blipFill>
        <p:spPr>
          <a:xfrm>
            <a:off x="6019920" y="914400"/>
            <a:ext cx="2895480" cy="2168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228600" y="1143000"/>
            <a:ext cx="5638680" cy="56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 Hoses-  Are </a:t>
            </a:r>
            <a:r>
              <a:rPr b="0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GRE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color, have right-handed threads with no markings on the connecting nu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tylene Hoses- Ar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RED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lor, have left handed threads, with notched markings on the connecting nu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hoses should have the preservative talcum powder blown out before the welding or cutting torch is u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es are flame retardant, but should still be kept away from open flame, fallen slag, molten metal and spark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VER EXCEED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15 PSI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ON TH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CETYLEN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GULATOR WORKING GU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VER EXCEED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40 PSI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ON TH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XYGE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GULATOR WORKING 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100_1584_edited"/>
          <p:cNvPicPr/>
          <p:nvPr/>
        </p:nvPicPr>
        <p:blipFill>
          <a:blip r:embed="rId2"/>
          <a:stretch/>
        </p:blipFill>
        <p:spPr>
          <a:xfrm>
            <a:off x="6705720" y="4952880"/>
            <a:ext cx="1130040" cy="1143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100_1682_edited"/>
          <p:cNvPicPr/>
          <p:nvPr/>
        </p:nvPicPr>
        <p:blipFill>
          <a:blip r:embed="rId3"/>
          <a:stretch/>
        </p:blipFill>
        <p:spPr>
          <a:xfrm>
            <a:off x="6705720" y="3352680"/>
            <a:ext cx="1149120" cy="1219320"/>
          </a:xfrm>
          <a:prstGeom prst="rect">
            <a:avLst/>
          </a:prstGeom>
          <a:ln w="0">
            <a:noFill/>
          </a:ln>
        </p:spPr>
      </p:pic>
      <p:sp>
        <p:nvSpPr>
          <p:cNvPr id="142" name="Line 7"/>
          <p:cNvSpPr/>
          <p:nvPr/>
        </p:nvSpPr>
        <p:spPr>
          <a:xfrm flipV="1">
            <a:off x="5334120" y="4266720"/>
            <a:ext cx="129528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8"/>
          <p:cNvSpPr/>
          <p:nvPr/>
        </p:nvSpPr>
        <p:spPr>
          <a:xfrm flipV="1">
            <a:off x="5029200" y="5486400"/>
            <a:ext cx="152388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XY-FUEL UNIT Ident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100_1608_edited"/>
          <p:cNvPicPr/>
          <p:nvPr/>
        </p:nvPicPr>
        <p:blipFill>
          <a:blip r:embed="rId1"/>
          <a:stretch/>
        </p:blipFill>
        <p:spPr>
          <a:xfrm>
            <a:off x="3276720" y="2209680"/>
            <a:ext cx="2422440" cy="44960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5546880" y="1407960"/>
            <a:ext cx="275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324480" y="1676520"/>
            <a:ext cx="228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6"/>
          <p:cNvSpPr/>
          <p:nvPr/>
        </p:nvSpPr>
        <p:spPr>
          <a:xfrm flipH="1">
            <a:off x="5334120" y="2438280"/>
            <a:ext cx="8380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5486040" y="3124080"/>
            <a:ext cx="7621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8"/>
          <p:cNvSpPr/>
          <p:nvPr/>
        </p:nvSpPr>
        <p:spPr>
          <a:xfrm flipH="1" flipV="1">
            <a:off x="4952520" y="3580920"/>
            <a:ext cx="114300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9"/>
          <p:cNvSpPr/>
          <p:nvPr/>
        </p:nvSpPr>
        <p:spPr>
          <a:xfrm flipH="1" flipV="1">
            <a:off x="5028840" y="4495320"/>
            <a:ext cx="106668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0"/>
          <p:cNvSpPr/>
          <p:nvPr/>
        </p:nvSpPr>
        <p:spPr>
          <a:xfrm flipH="1" flipV="1">
            <a:off x="4800240" y="5105160"/>
            <a:ext cx="121932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1"/>
          <p:cNvSpPr/>
          <p:nvPr/>
        </p:nvSpPr>
        <p:spPr>
          <a:xfrm flipV="1">
            <a:off x="2286000" y="2514240"/>
            <a:ext cx="21337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2"/>
          <p:cNvSpPr/>
          <p:nvPr/>
        </p:nvSpPr>
        <p:spPr>
          <a:xfrm flipV="1">
            <a:off x="2438280" y="3504960"/>
            <a:ext cx="1600200" cy="7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3"/>
          <p:cNvSpPr/>
          <p:nvPr/>
        </p:nvSpPr>
        <p:spPr>
          <a:xfrm>
            <a:off x="2666880" y="4419720"/>
            <a:ext cx="762120" cy="7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1295280" y="5410080"/>
            <a:ext cx="198144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5"/>
          <p:cNvSpPr/>
          <p:nvPr/>
        </p:nvSpPr>
        <p:spPr>
          <a:xfrm flipV="1">
            <a:off x="2286000" y="5410080"/>
            <a:ext cx="160020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76320" y="2590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xygen Reg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0" y="3352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ylene Reg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152280" y="41911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xy-Acetylene Ho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304920" y="49528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xy-Acetylene       C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6172200" y="22096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xygen Cylinder Val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6248520" y="2895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xygen Cyl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6172200" y="3809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ylene Cylinder Val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6172200" y="46483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ylene Cyl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6095880" y="54864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ylinder Safety Ch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ECURING THE CYL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100_1613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0830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152280" y="1752480"/>
            <a:ext cx="4572000" cy="46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ways chain or secure cylinders to a cylinder cart, wall or stable work ben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ways keep cylinders secured properly in a vertical (up-right) posi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not drop, strike, or apply heat to any part of the cylinder or valv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91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ylinder Protective Cap</a:t>
            </a:r>
            <a:br>
              <a:rPr sz="3200"/>
            </a:br>
            <a:br>
              <a:rPr sz="2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100_1617_edited"/>
          <p:cNvPicPr/>
          <p:nvPr/>
        </p:nvPicPr>
        <p:blipFill>
          <a:blip r:embed="rId1"/>
          <a:stretch/>
        </p:blipFill>
        <p:spPr>
          <a:xfrm>
            <a:off x="6019920" y="1676520"/>
            <a:ext cx="2906640" cy="37335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914400" y="175248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04920" y="1219320"/>
            <a:ext cx="5333760" cy="53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ways keep the protective safety caps in place whenever cylinders are moved or are in storage (full or empty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cylinder cap has two holes on its sides: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Larger Oval Shaped Hole-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designed to cause a cylinder with a broken-off valve to spin instead of taking-off like a missil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Smaller Circular Hole-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designed to make a loud whistling noise if the cylinder valve is broken-off, alerting the operator and others in the shop of dan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 flipV="1">
            <a:off x="5181480" y="2742840"/>
            <a:ext cx="25146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 flipV="1">
            <a:off x="5562720" y="3123720"/>
            <a:ext cx="2209680" cy="129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MPTY CYLI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100_1618_edited"/>
          <p:cNvPicPr/>
          <p:nvPr/>
        </p:nvPicPr>
        <p:blipFill>
          <a:blip r:embed="rId1"/>
          <a:stretch/>
        </p:blipFill>
        <p:spPr>
          <a:xfrm>
            <a:off x="4800600" y="1752480"/>
            <a:ext cx="3606840" cy="4630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228600" y="2133720"/>
            <a:ext cx="43434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empty cylinders “EMPTY” or Place a ring around the protective c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close cylinder valves completely on empty cylin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5"/>
          <p:cNvSpPr/>
          <p:nvPr/>
        </p:nvSpPr>
        <p:spPr>
          <a:xfrm>
            <a:off x="3809880" y="2743200"/>
            <a:ext cx="175284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RACKING THE CYLINDER VALV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80920" y="6126120"/>
            <a:ext cx="228600" cy="1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100_1626"/>
          <p:cNvPicPr/>
          <p:nvPr/>
        </p:nvPicPr>
        <p:blipFill>
          <a:blip r:embed="rId1"/>
          <a:stretch/>
        </p:blipFill>
        <p:spPr>
          <a:xfrm>
            <a:off x="5105520" y="1981080"/>
            <a:ext cx="3733560" cy="3303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457200" y="1219320"/>
            <a:ext cx="434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80880" y="914400"/>
            <a:ext cx="45720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O NOT stand directly in front of cylinder valv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tand behind the cylinder valve while cracking and be aware of others in the shop, aiming in a safe dir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entarily open and close the cylinder valve “cracking” - this will blow out any dust, dirt, or debris within the cylinder valve and prevent it from entering the regulator and sea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cylinder valve slightly.  If the valve is opened too much the cylinder could tip over from the press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cetylene cylinders spray a mist when cracked, let sit for 30 minutes allowing acetone to set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specting the Cylinder Valve and Reg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ure the connection seat and threads on the cylinder valve are not dama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amaged screw thread may ruin the regulator nut, while a poor connection seat will cause the gas to le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fully inspect the cylinder valves and regulator threads for traces of grease and oil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If oil or grease is foun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O NOT USE!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Report to instruct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100_1626_edited"/>
          <p:cNvPicPr/>
          <p:nvPr/>
        </p:nvPicPr>
        <p:blipFill>
          <a:blip r:embed="rId1"/>
          <a:stretch/>
        </p:blipFill>
        <p:spPr>
          <a:xfrm>
            <a:off x="5715000" y="2286000"/>
            <a:ext cx="31240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ATTACHING THE REGULA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100_1629"/>
          <p:cNvPicPr/>
          <p:nvPr/>
        </p:nvPicPr>
        <p:blipFill>
          <a:blip r:embed="rId1"/>
          <a:stretch/>
        </p:blipFill>
        <p:spPr>
          <a:xfrm>
            <a:off x="4724280" y="2286000"/>
            <a:ext cx="4038840" cy="30258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838080" y="1523880"/>
            <a:ext cx="426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28600" y="1295280"/>
            <a:ext cx="4267080" cy="59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the oxygen regulator to the oxygen cylinder and the acetylene regulator to the acetylene cylin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xygen connections have right handed threa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ygen cylinder valves have  male fittings and the oxygen regulator have female fitt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cetylene connections have left handed threa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etylene cylinder valves have female fittings and the Acetylene regulator have male fitt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ttaching the Regulator Co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876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ghten regulators with a close-fitted wrench (open-end wrench). Do not use jawed tools such as pliers, vice grips or channel locks to tighten regulator nu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over tighten regulators to cylinders.  Fittings are made of Brass a soft metal and stripping will likely occ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sure the regulator has the correct pressure rating for the cylinder being u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100_1629"/>
          <p:cNvPicPr/>
          <p:nvPr/>
        </p:nvPicPr>
        <p:blipFill>
          <a:blip r:embed="rId1"/>
          <a:stretch/>
        </p:blipFill>
        <p:spPr>
          <a:xfrm>
            <a:off x="5486400" y="2514600"/>
            <a:ext cx="350532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5:27:47Z</dcterms:created>
  <dc:creator>The Hirschler's</dc:creator>
  <dc:description/>
  <dc:language>en-US</dc:language>
  <cp:lastModifiedBy>Michael Spiess</cp:lastModifiedBy>
  <dcterms:modified xsi:type="dcterms:W3CDTF">2009-11-06T10:53:39Z</dcterms:modified>
  <cp:revision>2</cp:revision>
  <dc:subject/>
  <dc:title>UNIT:  Oxy-Fuel Welding, Brazing, Cutting and Heating</dc:title>
</cp:coreProperties>
</file>