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203C-94A7-4934-BA29-2A2E615E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981-81B8-41F7-A7CA-F82C3C6E4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4586-7A4F-4801-B32A-4EDA9A4C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B16-4F2E-4C2F-8135-0CFA49E6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5BC-888E-41B0-B33C-05ED16EFB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1629-4794-4E2A-A638-ED6125039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7E90-B88E-4460-B57B-80243D355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586-7404-444A-B064-0F496300D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3B4E-BD1A-43E1-B628-E47AA98B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F62E-6398-4E3F-9E24-BB7D02346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9BE-F5DE-4DCB-8ACF-B11F45BC3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5AC0-0ECB-4B16-A64D-6F6864C7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D6F4-D84F-4E00-B341-6860EF61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1F8-DDEB-4381-94E6-2F0FB74D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7ED-862E-49B8-8A60-EFA1EB19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A51-38BB-4840-A2CA-D59A7310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0FA-414E-411C-B90E-DCB5C512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98E-CCAE-452B-BA16-D72A87C6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CC6-468F-43BE-9C1C-CF9C5891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B6E-5CFA-40F0-942E-3BB75AF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488-FD8E-46CE-A9C0-33DFD5C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B52-CF57-488E-AD72-FD87EF0E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5BE-B332-4C32-83A0-8258860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995-C469-4BFC-BD97-68117BB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F8D-6AA3-4863-8EC8-F407657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05A-F2E5-4DC1-A1DA-F31CA95DB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ECK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100_1557_edited"/>
          <p:cNvPicPr/>
          <p:nvPr/>
        </p:nvPicPr>
        <p:blipFill>
          <a:blip r:embed="rId1"/>
          <a:stretch/>
        </p:blipFill>
        <p:spPr>
          <a:xfrm>
            <a:off x="5181480" y="2209680"/>
            <a:ext cx="3276720" cy="3022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09480" y="1447920"/>
            <a:ext cx="419112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installed to prevent the reverse flow of gases that would result in a combustible mixture in the welding hose, check valves are mounted to the welding torch handle and at the regulator outlet conne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eck valves are necessary safety devices attached between the hoses and the regulator outlet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- Working Gaug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 side- above green hose connection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*NEVER EXCEED 4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100_1584_edited"/>
          <p:cNvPicPr/>
          <p:nvPr/>
        </p:nvPicPr>
        <p:blipFill>
          <a:blip r:embed="rId1"/>
          <a:stretch/>
        </p:blipFill>
        <p:spPr>
          <a:xfrm>
            <a:off x="2362320" y="1981080"/>
            <a:ext cx="4365360" cy="441828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 flipH="1">
            <a:off x="3657240" y="1676520"/>
            <a:ext cx="106668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100_1591_edited"/>
          <p:cNvPicPr/>
          <p:nvPr/>
        </p:nvPicPr>
        <p:blipFill>
          <a:blip r:embed="rId1"/>
          <a:stretch/>
        </p:blipFill>
        <p:spPr>
          <a:xfrm>
            <a:off x="2286000" y="1600200"/>
            <a:ext cx="46483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- Cylinder Pressure Gauge</a:t>
            </a:r>
            <a:br>
              <a:rPr sz="3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side- closest to cyli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100_1683_edited"/>
          <p:cNvPicPr/>
          <p:nvPr/>
        </p:nvPicPr>
        <p:blipFill>
          <a:blip r:embed="rId1"/>
          <a:stretch/>
        </p:blipFill>
        <p:spPr>
          <a:xfrm>
            <a:off x="2438280" y="1600200"/>
            <a:ext cx="40975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Regulator- Working Gau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 side- above red hose connection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*NEVER EXCEED 15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100_1682_edited"/>
          <p:cNvPicPr/>
          <p:nvPr/>
        </p:nvPicPr>
        <p:blipFill>
          <a:blip r:embed="rId1"/>
          <a:stretch/>
        </p:blipFill>
        <p:spPr>
          <a:xfrm>
            <a:off x="2590920" y="2286000"/>
            <a:ext cx="3878280" cy="411624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>
            <a:off x="4191120" y="1676520"/>
            <a:ext cx="3045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19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ade #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oggles or G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ction Ligh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stri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ther Gloves &amp; Cover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ther B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100_1605_edited"/>
          <p:cNvPicPr/>
          <p:nvPr/>
        </p:nvPicPr>
        <p:blipFill>
          <a:blip r:embed="rId1"/>
          <a:stretch/>
        </p:blipFill>
        <p:spPr>
          <a:xfrm>
            <a:off x="4267080" y="1523880"/>
            <a:ext cx="2819520" cy="12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0_1603_edited"/>
          <p:cNvPicPr/>
          <p:nvPr/>
        </p:nvPicPr>
        <p:blipFill>
          <a:blip r:embed="rId2"/>
          <a:stretch/>
        </p:blipFill>
        <p:spPr>
          <a:xfrm>
            <a:off x="3581280" y="2971800"/>
            <a:ext cx="1981440" cy="120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100_1632"/>
          <p:cNvPicPr/>
          <p:nvPr/>
        </p:nvPicPr>
        <p:blipFill>
          <a:blip r:embed="rId3"/>
          <a:stretch/>
        </p:blipFill>
        <p:spPr>
          <a:xfrm>
            <a:off x="5791320" y="396252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2286000" y="2209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895480" y="3429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895480" y="472428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J:\2009-06-14-1625-34\100_1681.jpg"/>
          <p:cNvPicPr/>
          <p:nvPr/>
        </p:nvPicPr>
        <p:blipFill>
          <a:blip r:embed="rId4"/>
          <a:stretch/>
        </p:blipFill>
        <p:spPr>
          <a:xfrm>
            <a:off x="3352680" y="510552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9" name="Line 11"/>
          <p:cNvSpPr/>
          <p:nvPr/>
        </p:nvSpPr>
        <p:spPr>
          <a:xfrm>
            <a:off x="2743200" y="5867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HA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rch handle is probably the most frequently used item in a welding sh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ting attachments, welding tips and heating nozzles are all connected to the torch hand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inspect the torch handle head, valves and hose connections for oil, grease or damaged p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xygen connection is usually marked “OX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etylene connection is usually marked “FUE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100_1595_edited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RCH HANDLE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ch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rch Bod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xygen Contro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etylene Contro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100_1595"/>
          <p:cNvPicPr/>
          <p:nvPr/>
        </p:nvPicPr>
        <p:blipFill>
          <a:blip r:embed="rId1"/>
          <a:stretch/>
        </p:blipFill>
        <p:spPr>
          <a:xfrm>
            <a:off x="152280" y="1981080"/>
            <a:ext cx="5029200" cy="3768840"/>
          </a:xfrm>
          <a:prstGeom prst="rect">
            <a:avLst/>
          </a:prstGeom>
          <a:ln w="0">
            <a:noFill/>
          </a:ln>
        </p:spPr>
      </p:pic>
      <p:sp>
        <p:nvSpPr>
          <p:cNvPr id="57" name="Line 5"/>
          <p:cNvSpPr/>
          <p:nvPr/>
        </p:nvSpPr>
        <p:spPr>
          <a:xfrm flipH="1">
            <a:off x="1981080" y="1905120"/>
            <a:ext cx="3657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 flipH="1">
            <a:off x="3123720" y="2666880"/>
            <a:ext cx="25146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H="1" flipV="1">
            <a:off x="4952520" y="403812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H="1" flipV="1">
            <a:off x="4495320" y="4800240"/>
            <a:ext cx="11430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267080" y="35053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4114440" y="350532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ELDING NO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100_1598_edited"/>
          <p:cNvPicPr/>
          <p:nvPr/>
        </p:nvPicPr>
        <p:blipFill>
          <a:blip r:embed="rId1"/>
          <a:stretch/>
        </p:blipFill>
        <p:spPr>
          <a:xfrm>
            <a:off x="5867280" y="1905120"/>
            <a:ext cx="2590920" cy="22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100_1600"/>
          <p:cNvPicPr/>
          <p:nvPr/>
        </p:nvPicPr>
        <p:blipFill>
          <a:blip r:embed="rId2"/>
          <a:stretch/>
        </p:blipFill>
        <p:spPr>
          <a:xfrm>
            <a:off x="5943600" y="4572000"/>
            <a:ext cx="2514600" cy="1882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09480" y="1676520"/>
            <a:ext cx="48006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 the cone end, coupling nut, o-rings and welding nozzle for damage, oil or g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he welding nozzle to the torch handle. Tighten the coupling nut hand-tight only.  Wrench tightening may damage o-rings and create a faulty seal allowing lea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- There must always be two o-rings on the cone end of the nozzle.  The absence or damage of either of these o-rings allows premixing and leaks of oxygen and acetyl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648320"/>
            <a:ext cx="1295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410080" y="4648320"/>
            <a:ext cx="152424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ATING NO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100_1568_edited"/>
          <p:cNvPicPr/>
          <p:nvPr/>
        </p:nvPicPr>
        <p:blipFill>
          <a:blip r:embed="rId1"/>
          <a:stretch/>
        </p:blipFill>
        <p:spPr>
          <a:xfrm>
            <a:off x="2286000" y="1600200"/>
            <a:ext cx="45720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TTING HEAD ATTACH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100_1692_edited"/>
          <p:cNvPicPr/>
          <p:nvPr/>
        </p:nvPicPr>
        <p:blipFill>
          <a:blip r:embed="rId1"/>
          <a:stretch/>
        </p:blipFill>
        <p:spPr>
          <a:xfrm>
            <a:off x="533520" y="3048120"/>
            <a:ext cx="563868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" name="Text Box 4"/>
          <p:cNvSpPr/>
          <p:nvPr/>
        </p:nvSpPr>
        <p:spPr>
          <a:xfrm>
            <a:off x="2133720" y="26668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utting Oxygen (To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143000" y="29718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143000" y="2971800"/>
            <a:ext cx="45720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705720" y="396252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-Pressure      Cutting Oxygen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H="1" flipV="1">
            <a:off x="5791320" y="350496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6095880" y="4191120"/>
            <a:ext cx="6098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76720" y="609588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Oxygen Control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3657600" y="5486040"/>
            <a:ext cx="1522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3657600" y="4267080"/>
            <a:ext cx="763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895480" y="25909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80880" y="2666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xing Ch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819520" y="2971800"/>
            <a:ext cx="759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2437920" y="2971800"/>
            <a:ext cx="38124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572000" y="25909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572000" y="2666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upling N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H="1">
            <a:off x="4648320" y="297180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5105520" y="29718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609480" y="60958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Oxygen            (midd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1447920" y="4952520"/>
            <a:ext cx="121896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6553080" y="3276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6629400" y="4800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5"/>
          <p:cNvSpPr/>
          <p:nvPr/>
        </p:nvSpPr>
        <p:spPr>
          <a:xfrm flipH="1">
            <a:off x="5866920" y="5029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6"/>
          <p:cNvSpPr/>
          <p:nvPr/>
        </p:nvSpPr>
        <p:spPr>
          <a:xfrm flipH="1">
            <a:off x="61722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1981080" y="632448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676520" y="632448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-heat Acetylene (bott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9"/>
          <p:cNvSpPr/>
          <p:nvPr/>
        </p:nvSpPr>
        <p:spPr>
          <a:xfrm flipV="1">
            <a:off x="2819520" y="5105520"/>
            <a:ext cx="2286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TTING T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100_1561_edited"/>
          <p:cNvPicPr/>
          <p:nvPr/>
        </p:nvPicPr>
        <p:blipFill>
          <a:blip r:embed="rId1"/>
          <a:stretch/>
        </p:blipFill>
        <p:spPr>
          <a:xfrm>
            <a:off x="4572000" y="1828800"/>
            <a:ext cx="3657600" cy="3619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04920" y="1981080"/>
            <a:ext cx="4114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heat Orif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xture of Oxygen and Acetylene G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6 surrounding hole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xygen Cutting Jet Ori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Oxygen (Center Ho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733920" y="419112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191120" y="2209680"/>
            <a:ext cx="236196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59056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100_1579_edited"/>
          <p:cNvPicPr/>
          <p:nvPr/>
        </p:nvPicPr>
        <p:blipFill>
          <a:blip r:embed="rId1"/>
          <a:stretch/>
        </p:blipFill>
        <p:spPr>
          <a:xfrm>
            <a:off x="2743200" y="1752480"/>
            <a:ext cx="36622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xygen Regulator- Cylinder Pressure Gaug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side – closest to cylinde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100_1587_edited"/>
          <p:cNvPicPr/>
          <p:nvPr/>
        </p:nvPicPr>
        <p:blipFill>
          <a:blip r:embed="rId1"/>
          <a:stretch/>
        </p:blipFill>
        <p:spPr>
          <a:xfrm>
            <a:off x="2286000" y="1676520"/>
            <a:ext cx="4330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8:50Z</dcterms:created>
  <dc:creator>The Hirschler's</dc:creator>
  <dc:description/>
  <dc:language>en-US</dc:language>
  <cp:lastModifiedBy>Michael Spiess</cp:lastModifiedBy>
  <dcterms:modified xsi:type="dcterms:W3CDTF">2009-11-06T10:53:48Z</dcterms:modified>
  <cp:revision>1</cp:revision>
  <dc:subject/>
  <dc:title>CHECK VALVES</dc:title>
</cp:coreProperties>
</file>