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B36-4A86-42E5-8B00-394997F1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E180-96C0-414A-840C-9DA7851B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6EE5-EBC8-4210-AD42-5B15C34E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EA6A-77BC-4EAD-986C-15B056F5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8C40-C3F2-473D-AE02-D5673594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BB05-769A-421E-8EE0-7D91BA2E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5228-5339-492C-9B0D-E9F9D8A8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0268-6632-411E-9DA1-06891D3D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FDB0-0C21-46D5-831A-B5C91414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818A-3B87-4BF8-899D-B9417722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CCD3-B3F7-46EB-A00D-38CD7319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2D49-73A4-45BC-BFEC-14189D08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815F-B286-4909-A7BD-CFDD78937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it: Oxy-Acetylene; Welding, Brazing, Cutting &amp; H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5181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sson: Oxy-Acetylene General Safety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J:\2009-06-14-1625-34\100_1608_edited.jpg"/>
          <p:cNvPicPr/>
          <p:nvPr/>
        </p:nvPicPr>
        <p:blipFill>
          <a:blip r:embed="rId1"/>
          <a:stretch/>
        </p:blipFill>
        <p:spPr>
          <a:xfrm>
            <a:off x="3581280" y="1447920"/>
            <a:ext cx="187956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ENERAL PRECAUTIONS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seplay and running are not allowed in the sh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point or gesture with a lit to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throw objects in the class or sh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all injuries to the instru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use someone else’s lit torch to light your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r leather welding gloves when welding or cut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E WORK 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work area must have a fireproof floor.  Concrete is bes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e heat resistant shields to protect walls and unprotected flooring from sparks and hot met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aintain adequate ventilation to prevent the accumulation of toxic fumes and gas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xygen itself will not burn; however,the presence of pure oxygen will accelerate combustion and cause materials to burn with great intensity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il and grease in the presence of oxygen can ignite and burn violently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e tables with fireproof tops. Firebricks work well to protect table and bench surfac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hain or otherwise secure cylinders to a wall, bench, or cart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OTECTIVE CLOT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 yourself from sparks, flying slag, and flame brilliance at all t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r cutting glasses or goggles shaded 5 or dar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r protective gloves, sleeves, and shoes to protect the skin from sparks and sla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protective clothing free of oil and gr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RE PRE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pect oxy-fuel apparatus for oil, grease, or damaged parts. DO NOT USE the oxy-fuel apparatus if oil or grease is present or if damage is evid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use oil or grease on or around any oxy-fuel appara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a trace of oil or grease can ignite and burn violently in the presence of oxy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flames, heat and sparks away from cylinders and ho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ing sparks can travel up to 35 feet.  Make sure the area is free of combust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 fire extinguisher of the proper type and size on hand in the work area, know where they are located in the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RE PREVENTION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oxy-fuel equipment only with the gases for which it is inte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open the acetylene valve more than 1 full turn.  Be sure the cylinders can be turned off quickly if necess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he oxygen valve ALL THE WAY to seal the cylinder back seal pac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test for leaks with a flame.  Use soapy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work is complete, inspect the area for any possible fires or smoldering mate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GENERAL PRECA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e oxygen will accelerate combustion to the point that it can cause an explo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el gasses (acetylene) can be toxic.  Work in well ventilated areas o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use oxygen as compressed 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use oxygen to dust off clothing or the work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correct size wrench when tightening or loosening fittings.  They are made of brass and can be damaged eas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ENERAL PRECAUTIONS CONT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not in use, cylinders must have a protective cap insta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 to the side of the equipment when opening the cylinder valves, and open them slowly.  This will limit the risk of injury due to exploding regula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ygen cylinders contain pressures over 2000 PSI and must be handled carefu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etylene is unstable at pressures above 15 P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use a friction lighter (striker) to light your to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ENERAL PRECAUTIONS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 metal left out should be marked “HOT” so the others will not be burned by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ware of individuals around you and be concerned about their saf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cut directly on top of concrete.  The concrete will pop and expl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l heated / cut metal in the dunk t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he area between you and the cylinders clear and the cylinder valves unobstru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weld or cut on a closed contai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ENERAL PRECAUTIONS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leave a lit torch unatten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pliers or tongs to grab hot me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urbing another student while he / she is working is danger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hould caution any other student you see violating a safety r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fety depend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turning the cylinder on, make sure the regulator adjustment screw is turned counterclockwise until lo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ning clothing should be smothered quick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pect the hoses frequently and, when necessary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4:08:43Z</dcterms:created>
  <dc:creator>The Hirschler's</dc:creator>
  <dc:description/>
  <dc:language>en-US</dc:language>
  <cp:lastModifiedBy>Michael Spiess</cp:lastModifiedBy>
  <dcterms:modified xsi:type="dcterms:W3CDTF">2009-11-06T10:53:30Z</dcterms:modified>
  <cp:revision>3</cp:revision>
  <dc:subject/>
  <dc:title>Unit: Oxy-Acetylene; Welding, Brazing, Cutting &amp; Heating</dc:title>
</cp:coreProperties>
</file>