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F5F8-8A34-4C60-B7CD-5C4229D11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D329-8696-4519-BD6B-05EAC847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0268-CFF5-4CE9-8107-7D10DB2C8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7E8A-AA55-418C-99F5-17E25FD25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8125-9BA1-493F-98CA-1BDA616E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9AE9-91B2-41E6-97DD-616F6F30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A78D-39D9-4FA3-9674-C3580671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68FA-B6FA-491F-9871-BD58FAEC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BECE-6B86-45F9-9F08-E76F15E6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67B9-CDEF-4D20-B642-83CCD2AA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88DE-EAB8-4D01-9661-86D97B31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7C51-7A6C-4FC4-95F8-EFBB8F69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6996-673F-4337-82F7-AE95065D8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hutting Down the Cutting Outf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the cutting operation is finished, or whenever the cutting torch operator must leave the work area, the oxy-acetylene cutting outfit must be shut d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C:\Users\The Hirschler's\Desktop\2009-10-24\100_2008.JPG"/>
          <p:cNvPicPr/>
          <p:nvPr/>
        </p:nvPicPr>
        <p:blipFill>
          <a:blip r:embed="rId1"/>
          <a:stretch/>
        </p:blipFill>
        <p:spPr>
          <a:xfrm>
            <a:off x="4648320" y="2611440"/>
            <a:ext cx="380988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hutting Down the Cutting Outfit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ep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7960" y="243828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 these procedures for shutting down the equip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n off the acetylene torch val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C:\Users\The Hirschler's\Desktop\2009-10-24\100_1885.JPG"/>
          <p:cNvPicPr/>
          <p:nvPr/>
        </p:nvPicPr>
        <p:blipFill>
          <a:blip r:embed="rId1"/>
          <a:stretch/>
        </p:blipFill>
        <p:spPr>
          <a:xfrm>
            <a:off x="685800" y="2611440"/>
            <a:ext cx="380988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hutting Down the Cutting Outfit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ep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3352680"/>
            <a:ext cx="38098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n off the oxygen torch val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C:\Users\The Hirschler's\Desktop\2009-10-24\100_1964.JPG"/>
          <p:cNvPicPr/>
          <p:nvPr/>
        </p:nvPicPr>
        <p:blipFill>
          <a:blip r:embed="rId1"/>
          <a:stretch/>
        </p:blipFill>
        <p:spPr>
          <a:xfrm>
            <a:off x="4648320" y="2611440"/>
            <a:ext cx="380988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hutting Down the Cutting Outfi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ep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7960" y="3429000"/>
            <a:ext cx="38098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n off the Acetylene cylinder val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C:\Users\The Hirschler's\Desktop\2009-10-24\100_1895.JPG"/>
          <p:cNvPicPr/>
          <p:nvPr/>
        </p:nvPicPr>
        <p:blipFill>
          <a:blip r:embed="rId1"/>
          <a:stretch/>
        </p:blipFill>
        <p:spPr>
          <a:xfrm>
            <a:off x="685800" y="2590920"/>
            <a:ext cx="3809880" cy="28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hutting Down the Cutting Outfi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ep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3200040"/>
            <a:ext cx="3809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n off the Oxygen cylinder val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C:\Users\The Hirschler's\Desktop\2009-10-24\100_1896.JPG"/>
          <p:cNvPicPr/>
          <p:nvPr/>
        </p:nvPicPr>
        <p:blipFill>
          <a:blip r:embed="rId1"/>
          <a:stretch/>
        </p:blipFill>
        <p:spPr>
          <a:xfrm>
            <a:off x="4648320" y="2611440"/>
            <a:ext cx="380988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419720" y="2514600"/>
            <a:ext cx="40384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open the acetylene torch valve and depress the oxygen cutting lever to release or bleed any gas still remaining in the h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regulators read zero - shut off the acetylene torch val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hutting Down the Cutting Outfi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eps 5 &amp;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C:\Users\The Hirschler's\Desktop\2009-10-24\100_1955.JPG"/>
          <p:cNvPicPr/>
          <p:nvPr/>
        </p:nvPicPr>
        <p:blipFill>
          <a:blip r:embed="rId1"/>
          <a:stretch/>
        </p:blipFill>
        <p:spPr>
          <a:xfrm>
            <a:off x="1447920" y="1752480"/>
            <a:ext cx="1884240" cy="2514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C:\Users\The Hirschler's\Desktop\2009-10-24\100_2007.JPG"/>
          <p:cNvPicPr/>
          <p:nvPr/>
        </p:nvPicPr>
        <p:blipFill>
          <a:blip r:embed="rId2"/>
          <a:stretch/>
        </p:blipFill>
        <p:spPr>
          <a:xfrm>
            <a:off x="1143000" y="4495680"/>
            <a:ext cx="259092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440" y="2971800"/>
            <a:ext cx="38098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n the oxygen and acetylene regulator adjusting screws counterclockwise until no tension remains (loos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hutting Down the Cutting Outfi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ep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C:\Users\The Hirschler's\Desktop\2009-10-24\100_1891.JPG"/>
          <p:cNvPicPr/>
          <p:nvPr/>
        </p:nvPicPr>
        <p:blipFill>
          <a:blip r:embed="rId1"/>
          <a:stretch/>
        </p:blipFill>
        <p:spPr>
          <a:xfrm>
            <a:off x="4952880" y="2209680"/>
            <a:ext cx="2590920" cy="1941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:\Users\The Hirschler's\Desktop\2009-10-24\100_1892.JPG"/>
          <p:cNvPicPr/>
          <p:nvPr/>
        </p:nvPicPr>
        <p:blipFill>
          <a:blip r:embed="rId2"/>
          <a:stretch/>
        </p:blipFill>
        <p:spPr>
          <a:xfrm>
            <a:off x="4952880" y="4343400"/>
            <a:ext cx="259092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47960" y="3048120"/>
            <a:ext cx="380988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rap the Oxy-acetylene hoses on the outfit for proper clean-up and shop organ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hutting Down the Cutting Outfit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ep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C:\Users\The Hirschler's\Desktop\2009-10-24\100_1915.JPG"/>
          <p:cNvPicPr/>
          <p:nvPr/>
        </p:nvPicPr>
        <p:blipFill>
          <a:blip r:embed="rId1"/>
          <a:stretch/>
        </p:blipFill>
        <p:spPr>
          <a:xfrm>
            <a:off x="1066680" y="2133720"/>
            <a:ext cx="3083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5:26:06Z</dcterms:created>
  <dc:creator>The Hirschler's</dc:creator>
  <dc:description/>
  <dc:language>en-US</dc:language>
  <cp:lastModifiedBy>Michael Spiess</cp:lastModifiedBy>
  <dcterms:modified xsi:type="dcterms:W3CDTF">2009-11-06T10:52:31Z</dcterms:modified>
  <cp:revision>2</cp:revision>
  <dc:subject/>
  <dc:title>Torch Cutting Procedure  Piercing a Hole  Cont.</dc:title>
</cp:coreProperties>
</file>