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8E2-819C-42A9-9BA2-293293E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C2D-0E6A-4696-B89A-7599290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D9D-DEF4-408A-A82E-9A101BE9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DB6-B9C1-4906-AD24-58B822A3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8AE-C226-414D-989D-39BB8EF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EA1-EF13-4C5A-B956-DAD87E46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777-4DF8-4F3D-9E5E-9533311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C6E-CF6C-44D3-A61B-461AFEA0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F65-F121-4CFA-82BE-669D735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8C9-C55A-4B51-8237-BFFFC26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F11-68E0-471C-9511-704C92C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75F-7245-4BB3-B56B-BB5712F3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9E0-CBD3-4604-B2ED-F818DBE4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vent the sparks and slag from blowing towards you, tilt the torch tip slightly to one side when the oxygen is de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82.JPG"/>
          <p:cNvPicPr/>
          <p:nvPr/>
        </p:nvPicPr>
        <p:blipFill>
          <a:blip r:embed="rId1"/>
          <a:stretch/>
        </p:blipFill>
        <p:spPr>
          <a:xfrm>
            <a:off x="1066680" y="1981080"/>
            <a:ext cx="2895840" cy="21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The Hirschler's\Desktop\2009-10-24\100_1983.JPG"/>
          <p:cNvPicPr/>
          <p:nvPr/>
        </p:nvPicPr>
        <p:blipFill>
          <a:blip r:embed="rId2"/>
          <a:stretch/>
        </p:blipFill>
        <p:spPr>
          <a:xfrm>
            <a:off x="1066680" y="4267080"/>
            <a:ext cx="28958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metal is pierced, move the torch steadily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metal is not pieced all the way through it probably means that not enough cutting oxygen pressure has been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876920" y="2057400"/>
            <a:ext cx="2819160" cy="211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The Hirschler's\Desktop\2009-10-24\100_1986.JPG"/>
          <p:cNvPicPr/>
          <p:nvPr/>
        </p:nvPicPr>
        <p:blipFill>
          <a:blip r:embed="rId2"/>
          <a:stretch/>
        </p:blipFill>
        <p:spPr>
          <a:xfrm>
            <a:off x="4876920" y="4343400"/>
            <a:ext cx="28191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00440" y="3352320"/>
            <a:ext cx="1219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762120" y="198108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The Hirschler's\Desktop\2009-10-24\100_1989.JPG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855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49528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- If the cut piece does not fall off at the end of a cu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 TRY TO RECUT THE K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tap the cut piece of metal with a Chipping Hammer and the piece will generally det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:\Users\The Hirschler's\Desktop\2009-10-24\100_1991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2590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C:\Users\The Hirschler's\Desktop\2009-10-24\100_1992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81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5520" y="2819520"/>
            <a:ext cx="167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93.JPG"/>
          <p:cNvPicPr/>
          <p:nvPr/>
        </p:nvPicPr>
        <p:blipFill>
          <a:blip r:embed="rId1"/>
          <a:stretch/>
        </p:blipFill>
        <p:spPr>
          <a:xfrm>
            <a:off x="685800" y="25909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he Hirschler's\Desktop\2009-10-24\100_1994.JPG"/>
          <p:cNvPicPr/>
          <p:nvPr/>
        </p:nvPicPr>
        <p:blipFill>
          <a:blip r:embed="rId2"/>
          <a:stretch/>
        </p:blipFill>
        <p:spPr>
          <a:xfrm>
            <a:off x="4648320" y="259092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66920" y="2971800"/>
            <a:ext cx="1752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The Hirschler's\Desktop\2009-10-24\100_1995.JPG"/>
          <p:cNvPicPr/>
          <p:nvPr/>
        </p:nvPicPr>
        <p:blipFill>
          <a:blip r:embed="rId1"/>
          <a:stretch/>
        </p:blipFill>
        <p:spPr>
          <a:xfrm>
            <a:off x="609480" y="2611440"/>
            <a:ext cx="3810240" cy="285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he Hirschler's\Desktop\2009-10-24\100_2001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Bolt Hole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72200" y="3505320"/>
            <a:ext cx="137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The Hirschler's\Desktop\2009-10-24\100_2003.JPG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he Hirschler's\Desktop\2009-10-24\100_2006.JPG"/>
          <p:cNvPicPr/>
          <p:nvPr/>
        </p:nvPicPr>
        <p:blipFill>
          <a:blip r:embed="rId2"/>
          <a:stretch/>
        </p:blipFill>
        <p:spPr>
          <a:xfrm>
            <a:off x="4648320" y="2590920"/>
            <a:ext cx="3886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10:50Z</dcterms:created>
  <dc:creator>The Hirschler's</dc:creator>
  <dc:description/>
  <dc:language>en-US</dc:language>
  <cp:lastModifiedBy>Michael Spiess</cp:lastModifiedBy>
  <dcterms:modified xsi:type="dcterms:W3CDTF">2009-11-06T10:52:21Z</dcterms:modified>
  <cp:revision>1</cp:revision>
  <dc:subject/>
  <dc:title>Torch Cutting Procedure  Piercing a Hole  Cont.</dc:title>
</cp:coreProperties>
</file>