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E20-75D0-41E1-A622-9EF12E02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76F-FDE7-47BC-AF0E-3B82BE6F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18D-6B44-46D9-BC25-52537150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A35-E7CF-4405-9B6A-4FC54E38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889-9828-4A50-96C6-8ED5300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12B-CB23-4B86-B62C-3F28F96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2FC-58AE-4FFD-A9EC-4BED0E11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2BA-4601-41DD-8AE2-C3E406BC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F0B-68EA-46F2-851A-E2EBBDF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E16-245E-4341-BF0E-668AEF1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AB7-4890-4AFF-910B-7E8ED67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C3E-4B5B-46B0-BA1E-029B217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AFD-DB47-4D9C-9179-6475B782F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tting Tip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a cutting tip selection chart for correct cutting tip, regulator pressures, and travel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Go to fullsize image"/>
          <p:cNvPicPr/>
          <p:nvPr/>
        </p:nvPicPr>
        <p:blipFill>
          <a:blip r:embed="rId1"/>
          <a:stretch/>
        </p:blipFill>
        <p:spPr>
          <a:xfrm>
            <a:off x="1905120" y="2438280"/>
            <a:ext cx="1430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he oxygen valve on the welding torch all th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The Hirschler's\Desktop\2009-10-24\100_1886.JPG"/>
          <p:cNvPicPr/>
          <p:nvPr/>
        </p:nvPicPr>
        <p:blipFill>
          <a:blip r:embed="rId1"/>
          <a:stretch/>
        </p:blipFill>
        <p:spPr>
          <a:xfrm>
            <a:off x="4648320" y="25909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oxygen regulator to the desired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40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The Hirschler's\Desktop\2009-10-24\100_1889.JPG"/>
          <p:cNvPicPr/>
          <p:nvPr/>
        </p:nvPicPr>
        <p:blipFill>
          <a:blip r:embed="rId1"/>
          <a:stretch/>
        </p:blipFill>
        <p:spPr>
          <a:xfrm>
            <a:off x="838080" y="2743200"/>
            <a:ext cx="3048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fuel (Acetylene) regulator delivery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 EXCEED 15 P.S.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Users\The Hirschler's\Desktop\2009-10-24\100_1894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the fuel valve on the torch handle approximately one-half turn and ignite the gas with a friction lighter (striker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NOTE- Wear protective goggles or glasses   (Shade #5) to shield the eyes from the bright light of the flame and leather gloves from potential burns when lighting the torc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Users\The Hirschler's\Desktop\2009-10-24\100_1956.JPG"/>
          <p:cNvPicPr/>
          <p:nvPr/>
        </p:nvPicPr>
        <p:blipFill>
          <a:blip r:embed="rId1"/>
          <a:stretch/>
        </p:blipFill>
        <p:spPr>
          <a:xfrm>
            <a:off x="2362320" y="1905120"/>
            <a:ext cx="211140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:\2009-06-14-1625-34\100_1605_edited.jpg"/>
          <p:cNvPicPr/>
          <p:nvPr/>
        </p:nvPicPr>
        <p:blipFill>
          <a:blip r:embed="rId2"/>
          <a:stretch/>
        </p:blipFill>
        <p:spPr>
          <a:xfrm>
            <a:off x="685800" y="4876920"/>
            <a:ext cx="3200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The Hirschler's\Desktop\2009-10-24\100_1955.JPG"/>
          <p:cNvPicPr/>
          <p:nvPr/>
        </p:nvPicPr>
        <p:blipFill>
          <a:blip r:embed="rId3"/>
          <a:stretch/>
        </p:blipFill>
        <p:spPr>
          <a:xfrm>
            <a:off x="152280" y="1905120"/>
            <a:ext cx="211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o increase the fuel supply at the torch handle until the flame clears the end of the tip about 1/8”, then reduce the supply slightly to return the flame to the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:\Users\The Hirschler's\Desktop\2009-10-24\100_1958.JPG"/>
          <p:cNvPicPr/>
          <p:nvPr/>
        </p:nvPicPr>
        <p:blipFill>
          <a:blip r:embed="rId1"/>
          <a:stretch/>
        </p:blipFill>
        <p:spPr>
          <a:xfrm>
            <a:off x="5011560" y="1981080"/>
            <a:ext cx="30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ghting the Torch 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ly open the preheat oxygen control valve on the cutting attachment until the preheat flames establish a sharp inner cone (neutral fla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Users\The Hirschler's\Desktop\2009-10-24\100_1963.JPG"/>
          <p:cNvPicPr/>
          <p:nvPr/>
        </p:nvPicPr>
        <p:blipFill>
          <a:blip r:embed="rId1"/>
          <a:stretch/>
        </p:blipFill>
        <p:spPr>
          <a:xfrm>
            <a:off x="609480" y="2438280"/>
            <a:ext cx="3962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5:00Z</dcterms:created>
  <dc:creator>The Hirschler's</dc:creator>
  <dc:description/>
  <dc:language>en-US</dc:language>
  <cp:lastModifiedBy>Michael Spiess</cp:lastModifiedBy>
  <dcterms:modified xsi:type="dcterms:W3CDTF">2009-11-06T10:51:55Z</dcterms:modified>
  <cp:revision>2</cp:revision>
  <dc:subject/>
  <dc:title>Cutting Tip Chart</dc:title>
</cp:coreProperties>
</file>