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419-F6FD-4B50-B45E-7A3336EE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CEA-0BE5-4EA3-AE12-86CC26AE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F05-402F-41D9-80EB-9DB4044A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F9C-88E0-4A26-B4F9-7E5EB563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B0BB-A6B3-4800-A41C-D11932DC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CA81-7F07-4A89-856E-F956C943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9000-5D85-40E9-B9FC-52CFF9D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01AE-1336-4A65-9767-80A1DFFA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443A-3789-4571-9650-8991711D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3BEA-B8CA-435E-9723-7959989B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D426-EA14-47BD-89A8-8C2294D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D54-2091-444E-A0F4-AF393FA5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1B39-0488-4738-BDF0-80299C2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2B7D-90EB-4B82-A4C0-0B0C549B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CE26-E5A2-455F-8B80-45E037F3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A411-6037-4FDA-81F8-3AD99295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C7EC-6A96-4E23-A071-EC311521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B8B-6BD7-429D-ADA9-57648EAC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EFD-BAF9-4F80-A169-64DE4507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E52-C0B4-47EE-8A07-0707F10B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DD4-EB76-4835-ABC3-BE258B8E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690-4521-4F78-824B-1505593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CA9-29A4-40AB-93C7-F6F039E0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16E-6637-4583-8FA1-471C4A5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AB4B-439D-4E5C-89AA-7C00B4990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6D6-504C-46B2-BB1B-52081B6FD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ds.yahoo.com/S=96062857/K=biscuit+joints/v=2/SID=w/TID=I999_73/l=II/R=52/SS=i/OID=d4cb4b87c1e3f9fe/SIG=1shpv7ab1/EXP=1121537527/*-http%3A//images.search.yahoo.com/search/images/view?back=http%3A%2F%2Fimages.search.yahoo.com%2Fsearch%2Fimages%3Fp%3Dbiscuit%2Bjoints%26ei%3DUTF-8%26fl%3D0%26imgsz%3Dall%26fr%3Dmy-vert-img-top%26b%3D41&amp;h=50&amp;w=100&amp;imgcurl=www.thewoodworkerschoice.com%2Fimages%2F5161-5163_t.jpg&amp;imgurl=www.thewoodworkerschoice.com%2Fimages%2F5161-5163_t.jpg&amp;size=1.4kB&amp;name=5161-5163_t.jpg&amp;rcurl=http%3A%2F%2Fwww.thewoodworkerschoice.com%2Fsearch_results.asp_txtsearchParamTxt__txtsearchParamCat_7_txtsearchParamType_ALL_iLevel_1_txtsearchParamMan_ALL_txtsearchParamVen_ALL_txtFromSearch_fromSearch_btnSearch.x_7_btnSearch.y_14&amp;rurl=http%3A%2F%2Fwww.thewoodworkerschoice.com%2Fsearch_results.asp_txtsearchParamTxt__txtsearchParamCat_7_txtsearchParamType_ALL_iLevel_1_txtsearchParamMan_ALL_txtsearchParamVen_ALL_txtFromSearch_fromSearch_btnSearch.x_7_btnSearch.y_14&amp;p=biscuit+joints&amp;type=jpeg&amp;no=52&amp;tt=62&amp;ei=UTF-8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Fastening Wood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119-1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f strengthening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pegs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sold in 36” lengths and cut to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purchased in various diameters and 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into complimentary holes in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mortise and t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781680" y="474336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57800" y="3693960"/>
            <a:ext cx="3429000" cy="2703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cuit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in ovals of manufacture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s are cut with a biscuit tool in the complimentary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is used to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mps required until 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y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67080" y="1409760"/>
            <a:ext cx="2133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5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st way to secure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rigid of all fasten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ypes of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, Common, finish, roofing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driven with a h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eumatic and electric nail guns make nailing much easier on carp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77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a h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mers have different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7, 13, 16, and 20 ou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vier the hammer can drive larger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N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 size and type are determined b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 are sized by pen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from British, how many pennies it took to buy 100 nails of a given size.  The smaller the penny the smaller the n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case d represents the penny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is about 1”, a 60d is about 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9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 may be pulled with a claw ha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is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crap block to add leverage and protec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igure 10-4 page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n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 N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 driven at 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ening 2 boards at 90° one end to a 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 N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ils driven through the thickness of one board into the end o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il parallel to end piece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N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lat pieces nail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 to t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 to thin may require cli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ding nail at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plitting occurs clinch across the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nching is very strong way to n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carpentry requires nails to be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nails achieve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nails are driven below the surface of the wood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ed with a nai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 like tool with a cupped end to stay on nail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 should be set to at least 1/1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8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8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Scre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ws are stronger than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head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bite into wood for secure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6121440" cy="3319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943600" y="6248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ntersink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lling pilot, shank hole and counters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als the sc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2705400" cy="2489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6291360" y="2743200"/>
            <a:ext cx="254628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419112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ink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6324480"/>
            <a:ext cx="14475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609588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86400"/>
            <a:ext cx="914400" cy="0"/>
          </a:xfrm>
          <a:prstGeom prst="line">
            <a:avLst/>
          </a:prstGeom>
          <a:ln w="57240">
            <a:solidFill>
              <a:srgbClr val="549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525780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Sh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95120" y="518148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80060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334120" y="5257800"/>
            <a:ext cx="2057400" cy="990720"/>
          </a:xfrm>
          <a:prstGeom prst="line">
            <a:avLst/>
          </a:prstGeom>
          <a:ln w="572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52880" y="3200400"/>
            <a:ext cx="221004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029200" y="3962160"/>
            <a:ext cx="2286000" cy="1523880"/>
          </a:xfrm>
          <a:prstGeom prst="line">
            <a:avLst/>
          </a:prstGeom>
          <a:ln w="5724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on of two pie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, Lap, Dado, Miter, Dov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based on desired strength and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ways to secure a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, Screws, glue, or b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172200" y="4062240"/>
            <a:ext cx="2971800" cy="27957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Bo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ts differ from screws in threa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washers and nu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the strongest way to fasten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es drilled for bolts equal the diameter of the bo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age bolts ofte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shank pr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 from sp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9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Gl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ly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than 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trong as the wood or str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rcinol, urea, polyvinyl, epoxy, contact cement, casein, and animal g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wood gl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phatic resin, or carpenter’s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756480" y="0"/>
            <a:ext cx="2387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Gl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s to be glued must be properly prep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aint, grease, or w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the joint to ensure wood to wood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is used solo, or with nails, screws and bo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d joints must be clamped until glue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glue all immovable wood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6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Butt Joints"/>
          <p:cNvPicPr/>
          <p:nvPr/>
        </p:nvPicPr>
        <p:blipFill>
          <a:blip r:embed="rId1"/>
          <a:stretch/>
        </p:blipFill>
        <p:spPr>
          <a:xfrm>
            <a:off x="5867280" y="1905120"/>
            <a:ext cx="227016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eces joined end to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edge to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e or at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irly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ngthened by wood or metal plates across the j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eces joined face to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e or at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onger than butt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Lap Joint"/>
          <p:cNvPicPr/>
          <p:nvPr/>
        </p:nvPicPr>
        <p:blipFill>
          <a:blip r:embed="rId1"/>
          <a:stretch/>
        </p:blipFill>
        <p:spPr>
          <a:xfrm>
            <a:off x="6019920" y="3505320"/>
            <a:ext cx="2394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Housed Dado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762120" y="1371600"/>
            <a:ext cx="2496960" cy="3063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6520" y="533160"/>
            <a:ext cx="5837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o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ular groove in one board that receives the end of anothe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body of board not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held with only glue if fit up i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rabbet butt joint"/>
          <p:cNvPicPr/>
          <p:nvPr/>
        </p:nvPicPr>
        <p:blipFill>
          <a:blip r:embed="rId1"/>
          <a:stretch/>
        </p:blipFill>
        <p:spPr>
          <a:xfrm>
            <a:off x="5410080" y="3809880"/>
            <a:ext cx="3276720" cy="25545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et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unny ear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o at the end of a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n cabinet and box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 easily if cut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61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05520" y="1752480"/>
            <a:ext cx="3460680" cy="3733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er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ends cut to 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ts up to perfect 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in finish trim and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secured with glu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on Nail-box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Dove 2"/>
          <p:cNvPicPr/>
          <p:nvPr/>
        </p:nvPicPr>
        <p:blipFill>
          <a:blip r:embed="rId1"/>
          <a:stretch/>
        </p:blipFill>
        <p:spPr>
          <a:xfrm>
            <a:off x="5168880" y="1066680"/>
            <a:ext cx="374652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vetail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locking fingers and gro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strongest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fine furn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d by glu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Dovetail"/>
          <p:cNvPicPr/>
          <p:nvPr/>
        </p:nvPicPr>
        <p:blipFill>
          <a:blip r:embed="rId2"/>
          <a:stretch/>
        </p:blipFill>
        <p:spPr>
          <a:xfrm>
            <a:off x="5562720" y="3886200"/>
            <a:ext cx="1382760" cy="2549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22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90720" y="2625840"/>
            <a:ext cx="3771720" cy="4079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ise and Te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oldest joints in wood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glued, pinned, or w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7:44:02Z</dcterms:created>
  <dc:creator>Valued Gateway Client</dc:creator>
  <dc:description/>
  <dc:language>en-US</dc:language>
  <cp:lastModifiedBy>dpiersma</cp:lastModifiedBy>
  <dcterms:modified xsi:type="dcterms:W3CDTF">2009-11-12T04:40:55Z</dcterms:modified>
  <cp:revision>7</cp:revision>
  <dc:subject/>
  <dc:title>Fastening Wood </dc:title>
</cp:coreProperties>
</file>