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77E-9111-41AA-9899-0DD98419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867-D3A6-47EF-96E4-E28F6141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020-55D0-4935-B2C9-F16ED0B2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4B7-2CC1-43F7-874B-F6988776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6888-A634-4E27-82B8-643B5B0E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D958-FBA6-4803-8A98-95904F01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6759-7550-46E3-8094-1874A88D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3300-15C2-431C-B9DB-9E2B8C0C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2E6B-F19A-4446-9D33-8E38F4FF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5ED4-1D82-4BDB-99DD-96214B89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D5EC-B730-416E-976E-496A7824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571-FA6B-4BEC-8BDC-0CEDFA12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61FE-3120-4C05-9A86-CE71B5BD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705F-EEFE-49AA-B7EB-31E45EB7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7ECD-834B-47D6-B35E-A0F03C87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B830-60DB-4FE5-BE39-335DC698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8EDD-B186-4CDA-A766-703E3CC5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02E-EEE7-481D-B8D0-64CA3AA4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234-E383-4361-A85A-8292BC50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565-BA26-4A08-8F2C-41D68EB7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5F1-9E6D-4974-AAB8-CF3B08BA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C37-A146-481D-9D6B-E9E5C62E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51F-EABB-488F-BA65-0420D244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117-AE46-490D-8E49-8219A863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EE0A-D764-4F4C-88CD-0599BA980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66C8-4910-4C9B-8700-CB34DBF65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electing, Cutting, and Shaping Woo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01-1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oft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re strength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ters, studs, joists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ased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graded into number 1, 2, 3 Dimension, depending upon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1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chieving Quality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S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parallel to the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in appears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method for s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52480"/>
            <a:ext cx="7543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ersa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s divided into quar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quarter is sawn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less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1400040" cy="1861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72200" y="4486320"/>
            <a:ext cx="1467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3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" y="1038240"/>
            <a:ext cx="845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537600" cy="4765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685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in-sawed or Plain sawn L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Quartersawn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1722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r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 are harvested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ylem and Phloem conta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Lumber 120-130% moistur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must be dr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Lumber must be 15% or less moi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shrinks and distorts as it d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lumber must be 6-8% mois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drying is 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 year per inch of thic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ir drying wood can be kiln dried to 6-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ln is a large oven that slowly heats the wood removing excess mois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Finis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ber is sold in 4 standard fin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l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 from the saw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 surfaced two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Finis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4S surfaced four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des and edges are planed to exact dimen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s are ex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urfaces are s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andard Lumber Siz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s direct from the sawmill are rough c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 an exa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4 may be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¼ x 4 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oards are finished at the lumber 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inished boards are also not the size they say they are, or nomina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 S4S 2x4 is actually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x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tt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ypes of saw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aws and mechanical s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hands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 s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cutting across the g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boards sh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8006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cutting along the width of the board or with the g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boards narr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5310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tt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1539720"/>
            <a:ext cx="59817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8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Annual Growth Rings"/>
          <p:cNvPicPr/>
          <p:nvPr/>
        </p:nvPicPr>
        <p:blipFill>
          <a:blip r:embed="rId1">
            <a:lum bright="66000"/>
            <a:alphaModFix amt="27000"/>
          </a:blip>
          <a:stretch/>
        </p:blipFill>
        <p:spPr>
          <a:xfrm>
            <a:off x="914400" y="685800"/>
            <a:ext cx="6095880" cy="5767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haracteristics of Wood and Lumber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rd, compact fibrous material that comes from the branches and stems of t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Ring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s caused by hardening of the xylem and phloem of a plant, as new xylem and phloem are developed each year.  Responsible for the appearance of the wood g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s or animals with the same characteristics.  Crucial in the selection of wood, some are better for decoration, some resist rot, some are hard, some are sof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tt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1405080"/>
            <a:ext cx="54864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2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boards removes part of th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sawdust com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account for this kerf when we are laying out our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saw blades will leave a 1/8” K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Kerf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317600"/>
            <a:ext cx="6921720" cy="500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Kerf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dos and Rabbe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cuts we make will go through an entir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os and rabbets are cuts or grooves made to receive another board to make a stronger j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67400" y="2247840"/>
            <a:ext cx="3028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dos and Rabbe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33840" y="2438280"/>
            <a:ext cx="308628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ets are used on end joints like drawer cor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ow a Tree Grow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3754440" cy="3886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8862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ardwood vs. Softwoo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that is derived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ifer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es. (trees that keep their leaves through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e, Douglas Fir, Red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that is derived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es.  (loose their leaves in the fall and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k, Maple, Cherry, Waln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ood Gr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, clear Lumber in a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= free of kn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ts = where branches attach to the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 – First and Seco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’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”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%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side of the board meets 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 and FAS-1 are used for very fine woodwo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verage Hard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1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C = 4’ long, 3” wide, 67%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2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C = 4’ long, 3” wide, 50%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3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C = 4’ long, 3” wide, 33%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oft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rd L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, Common, and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: used where appearance is important, fascia boards, trim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s can be covered by paint or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ivided into Grade A, B, C, &amp; D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oft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construction where appearance is not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ivided into Number 1,2,3,4,5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5 Common is the lowest quality lumber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9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21:30:56Z</dcterms:created>
  <dc:creator>Valued Gateway Client</dc:creator>
  <dc:description/>
  <dc:language>en-US</dc:language>
  <cp:lastModifiedBy>dpiersma</cp:lastModifiedBy>
  <dcterms:modified xsi:type="dcterms:W3CDTF">2009-11-12T20:23:33Z</dcterms:modified>
  <cp:revision>9</cp:revision>
  <dc:subject/>
  <dc:title>Selecting, Cutting, and Shaping Wood</dc:title>
</cp:coreProperties>
</file>