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wmf" ContentType="image/x-wm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AD3-26D1-4B24-8536-69C02C83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3EB-5765-465A-9533-7B0F8AA6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E65-0861-4925-B21C-CC9CFAB1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838-749D-4E9A-8456-FDC90FC9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8585-728B-4EC4-8110-CFCE0436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9CE5-63CE-4755-BBC1-3827F462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BB90-D4BD-4663-9CEE-2BED5288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9074-F903-435B-B39F-A6AF8DEE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3DB9-D1E2-4252-9B2A-D28B6F81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72D1-591E-4552-9C90-245AB8D5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0205-4CF9-40D8-99CB-DACE5335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A6E-4618-4C17-B69E-4A1D4CF7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ED11-1DBC-45C0-8C87-13D59F81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B11F-B0E8-4765-9D2C-6EFB9A2D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7B40-2D34-45D7-A168-B3CF8982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8C0F-A61C-4482-B659-29C189C4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5782-FD9D-42C9-AE55-4351C857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189-1811-4E4A-9725-64741118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524-8EC9-42E1-A78C-9B2B965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4C3-F412-4825-BF05-1BE7D78C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773-67C6-460A-A672-A861F8FA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713-317C-4728-9035-7CA68926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9E1-4B49-4267-9749-6BC40582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26B-8EDB-4A40-93B2-CE2A39E3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41720" indent="-41292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41720" indent="-41292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41720" indent="-41292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CF5F-016C-466F-8F4F-C1C1C32C1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EFFB-CA90-47F2-B9E0-39FA58B7A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ld metal and Layou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r. Patters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struction Tech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k Punch - Is used to transfer directly from the drawing to the sheet metal by placing the drawing on top of the metal and then tapping the punch with a hammer to mark the metal through the drawin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er Punch - Is used to enlarge a mark for a drill to follow in order to prevent wandering of the drill bi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495680" cy="2419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ick Punch           Center Punc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6480" y="25099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pstone - Is a white, soft, natural element cut to either a rectangular or round shape about 4” long and is used to mark rough measurements on ste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24080" y="3086280"/>
            <a:ext cx="3848400" cy="28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iding “T” Bevel - Is a transfer tool used to copy different angles from a blueprint or project onto the me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viders - Used to transfer a dimension from a rule to the metal.  Also used to scratch circles or arcs in the meta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liding T Bevel       Divid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2610000"/>
            <a:ext cx="3771720" cy="262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ipers - Used to measure the thickness or diameter of an objec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ass - Used to mark circles and arcs on metal. The compass uses a pencil attached to one leg to make the ma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B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Measuremen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95800" y="2133720"/>
            <a:ext cx="2628720" cy="358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4343400"/>
            <a:ext cx="76960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step in correct layout is to measure with exact dimensions the item being copied using a rule, metal tape, dividers, and/or comp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904760"/>
            <a:ext cx="7696080" cy="1942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bility to read and measure correctly both whole and fractional dimensions from the rule to work and back to the rule requires concentration and counting accurately along the r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696080" cy="2895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ill at measuring requires practice. You should be able to measure accurately to the nearest 1/16”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809880" cy="3135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ld met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with metal with out using h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ding, Drilling, taping, cutting, ro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roject Layou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ct Lay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76720" y="1965240"/>
          <a:ext cx="647676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65240"/>
                    <a:ext cx="647676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roject Layou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yout or transfer work is the placement of the measurements and lines on the me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yout work is done in full scale and allows for saw cuts or kerfs as need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yout can be done from a drawing or from an actual project being copi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roject Layou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fer the dimensions from drawing to metal using one of the following metho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h a drawing (full size) to the metal. Use a scratch awl to make an outline of th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er lines from a drawing to metal using a straight edge and scratch awl or soapstone. Be sure all lines are straight and angles are corr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templates or cardboard to transfer curves and ang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dentification and Use of Basic Metalworking Tool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talworking Tool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ratch Awl or Scribe - Hardened steel rod with a sharp point that allows you to make marks on stee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n Snips -Hand-held pliers-like tool used for cutting sheet me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cksaw - A hand-held saw with a replaceable blade.  Used for cutting all types of thin metals, round and bar stock, pipes, and tubin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ratch Awl and Tin snip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50992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6480" y="25099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acksa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2030400"/>
            <a:ext cx="7696080" cy="3787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A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Metalworking Too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ill Press - A mounted drill used for precision drilling  of portable object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d Chisel - Is used with a hammer and vise to shear th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92840" y="1905120"/>
            <a:ext cx="1359000" cy="4038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ayout Tools - Both measuring and layout tools require skill in use and care in handling and storag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el Rule - Used to make linear measurements, check straight lines, and to project straight lines onto metal.  Usually marked in units to 1/32”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6934320" cy="1752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tion Square - Consists of a steel rule, level, and 90 and 45 degree angles.  Used to layout markings on metal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054680" cy="2919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al Tape - Used to layout dimensions longer than a few feet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644640" cy="3124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3:53:13Z</dcterms:created>
  <dc:creator>RPatterson</dc:creator>
  <dc:description/>
  <dc:language>en-US</dc:language>
  <cp:lastModifiedBy>RPatterson</cp:lastModifiedBy>
  <dcterms:modified xsi:type="dcterms:W3CDTF">2009-11-11T21:51:22Z</dcterms:modified>
  <cp:revision>8</cp:revision>
  <dc:subject/>
  <dc:title>Cold metal and Layout</dc:title>
</cp:coreProperties>
</file>