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B7FB-5F87-408B-B00E-F0ACE86C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FE69-7FF8-4E8E-A562-9CE192F9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388D-F715-4A0C-A2DB-44CF7666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4CF9-6938-49E7-8541-053C57A6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10D-DD02-4207-8274-F128EEE0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871-2941-4318-A17B-B30A83E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936-B986-4D70-B8D8-95CADB6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3020-468F-4DDF-8486-3AC2DBC5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97D-187E-4B09-B22D-3BB330A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586-9AAD-4A76-B9A5-A2587C0E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EAD4-BF34-44CD-84E1-1BA8F2F4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676F-1987-4E34-AC7A-5B64AF2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9D5C-4B21-495B-887B-8EE5A93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7C2F-9A16-4392-9EAA-B333523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BAA6-51CB-4444-A42A-CB65D7A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9F44-36FB-46CE-A928-61DFBFCA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71D5-1E89-4830-B93B-A64590A5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EB42-CE17-4DBB-96E3-74EF053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6594-B3C1-40F7-8A8A-AEB5DAE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9693-9115-4FF4-B3DE-3447E24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B9DA-BB68-4B15-8F7E-AB31C03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D24F-A12C-41B7-BBB7-38BCA0F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C7FD-153B-4348-90ED-8761DF4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CDB9-CDFB-4B47-9D5E-03E6ACC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5D9-1561-4486-84A4-3A3B6C729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7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41720" indent="-412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C04-657C-4FE9-9DAF-4392B9056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PATT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UCTION TECH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p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yout hole location using “Drilling”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required tap size and threads per inch (TP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lt Tap Drill chart for ho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5440" y="1600200"/>
            <a:ext cx="3322440" cy="21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 Drill Cha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37960" y="-63360"/>
          <a:ext cx="8669160" cy="6984720"/>
        </p:xfrm>
        <a:graphic>
          <a:graphicData uri="http://schemas.openxmlformats.org/drawingml/2006/table">
            <a:tbl>
              <a:tblPr/>
              <a:tblGrid>
                <a:gridCol w="1720800"/>
                <a:gridCol w="260280"/>
                <a:gridCol w="1055880"/>
                <a:gridCol w="1214280"/>
                <a:gridCol w="254160"/>
                <a:gridCol w="1693800"/>
                <a:gridCol w="254160"/>
                <a:gridCol w="1029960"/>
                <a:gridCol w="1185840"/>
              </a:tblGrid>
              <a:tr h="3988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 Drill Ch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COARSE THREAD(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Fine Threads (NF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Bo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Screw 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t or Scr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s inside and 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classifications of thr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Fine (UNF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Course (UN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Pipe Thread (NP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825800" cy="517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Diame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meter of the thread measured directly over the threa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Pitch- # of threads per i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648320" cy="454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 hand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St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52680" y="1533600"/>
            <a:ext cx="5334120" cy="186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3922560"/>
            <a:ext cx="5410080" cy="177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ctr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utting Flui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721320" cy="495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as a semi-permanent form of fasting metal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join dissimilar materials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92480" y="152280"/>
            <a:ext cx="4859280" cy="643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when back side of material can not be rea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to connect a blind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724640" cy="3110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 hole to correct size for pop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ip pop rivet into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ing sure it is pushed in all the way up to the fl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25640" cy="409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the pop rivet gun over the pointed end of the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at the rivet squeeze the two handles together until the rivet center pin breaks 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657600" cy="30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ing- bending or forming a flat shape into a 3 dimensional obj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main forms of breaking me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 breaking-using specially designed hand to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hand seamer) to bend sheet me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chine Bre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ss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x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n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ing Mach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025880" cy="294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022720" cy="159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of Flat shape formed to a 3D shap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523880"/>
          <a:ext cx="510552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1055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76920" y="4038480"/>
          <a:ext cx="4038480" cy="26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038480"/>
                    <a:ext cx="40384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stening Metal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v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0668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71800" y="4343400"/>
            <a:ext cx="2286000" cy="197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yout the center of the hole to be dri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 the center with two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nter punch the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1165320"/>
            <a:ext cx="3984480" cy="262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30704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the correct drill size from a drill ind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the drill into the drill chuck and tighten with the chuck k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3920" y="3938760"/>
            <a:ext cx="352584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mp material to the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a drop of cutting fluid on the center punch ma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on drill and begin to drill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sure to put even pressure on the dr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714920" cy="48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4114800"/>
            <a:ext cx="4705200" cy="1355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tting Threa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2 ways to cut threa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rnal Threads (bol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-cutting threads on the outside of a piece of r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nal Threads (nu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p-cutting threads on the inside of a ho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286000" cy="2173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5:22:57Z</dcterms:created>
  <dc:creator>RPatterson</dc:creator>
  <dc:description/>
  <dc:language>en-US</dc:language>
  <cp:lastModifiedBy>RPatterson</cp:lastModifiedBy>
  <dcterms:modified xsi:type="dcterms:W3CDTF">2009-11-11T21:51:55Z</dcterms:modified>
  <cp:revision>14</cp:revision>
  <dc:subject/>
  <dc:title>Cold Metal Processes</dc:title>
</cp:coreProperties>
</file>